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43.png" ContentType="image/png"/>
  <Override PartName="/ppt/media/image39.gif" ContentType="image/gif"/>
  <Override PartName="/ppt/media/image38.gif" ContentType="image/gif"/>
  <Override PartName="/ppt/media/image37.jpeg" ContentType="image/jpeg"/>
  <Override PartName="/ppt/media/image20.png" ContentType="image/png"/>
  <Override PartName="/ppt/media/image25.png" ContentType="image/png"/>
  <Override PartName="/ppt/media/image28.jpeg" ContentType="image/jpeg"/>
  <Override PartName="/ppt/media/image57.png" ContentType="image/png"/>
  <Override PartName="/ppt/media/image10.png" ContentType="image/png"/>
  <Override PartName="/ppt/media/image36.jpeg" ContentType="image/jpeg"/>
  <Override PartName="/ppt/media/image22.png" ContentType="image/png"/>
  <Override PartName="/ppt/media/image59.png" ContentType="image/png"/>
  <Override PartName="/ppt/media/image30.gif" ContentType="image/gif"/>
  <Override PartName="/ppt/media/image23.png" ContentType="image/png"/>
  <Override PartName="/ppt/media/image17.png" ContentType="image/png"/>
  <Override PartName="/ppt/media/image5.png" ContentType="image/png"/>
  <Override PartName="/ppt/media/image70.jpeg" ContentType="image/jpeg"/>
  <Override PartName="/ppt/media/image32.gif" ContentType="image/gif"/>
  <Override PartName="/ppt/media/image35.png" ContentType="image/png"/>
  <Override PartName="/ppt/media/image29.jpeg" ContentType="image/jpeg"/>
  <Override PartName="/ppt/media/Failed.WAV" ContentType="audio/x-wav"/>
  <Override PartName="/ppt/media/image75.png" ContentType="image/png"/>
  <Override PartName="/ppt/media/image71.jpeg" ContentType="image/jpeg"/>
  <Override PartName="/ppt/media/image69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66.png" ContentType="image/png"/>
  <Override PartName="/ppt/media/image64.jpeg" ContentType="image/jpeg"/>
  <Override PartName="/ppt/media/image63.jpeg" ContentType="image/jpeg"/>
  <Override PartName="/ppt/media/image74.png" ContentType="image/png"/>
  <Override PartName="/ppt/media/image61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0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1.png" ContentType="image/png"/>
  <Override PartName="/ppt/media/image4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42.jpeg" ContentType="image/jpe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3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AFF-2629-4CE2-94BA-9C62FDBB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967-3D72-409C-8F9E-046CEB5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E18-3042-48A7-B344-1B19A267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F45-3B30-46AE-A62F-5DB766B6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9E11-A430-47A5-9DB5-3A2A3549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D5C7-4488-4E99-ABA8-067CA61D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EF33-CE69-4871-B779-BB2F7750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C9D7-FC23-4DE6-AB94-6C119402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3DB-692B-4934-AD89-8D75178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2AB-3E3B-4CEC-8E83-15A6FE4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45E-8E9E-4512-990D-0FEF91A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C76-9C0E-47DF-86AD-7FEA85B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B80E-0755-472C-BBBF-521B406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06B4-818C-4757-A6CF-8378037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F546-74BA-488F-9180-124643C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E4AE-6BD2-4492-8E1B-0E453399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05DD-28C1-4A5B-87CB-0D1A2033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6B11-D265-486E-9DCE-EE542310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30C5-8494-4BB8-B0E1-F0BE1EDC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D5AE-8602-4244-9EA2-0CFD3275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2C5B9-EE06-4FE3-B0A6-D78E9CB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DED4-CDCF-4985-93C8-17DEB167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0F6-69E1-4188-8A78-7B07E102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8705-EB5F-4C61-B874-AC7861F6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A39D-C737-438B-B9D8-561FF53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FE73-FC66-4C98-A1EA-0842AA6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833E-D4D2-4ACF-90FB-CE10F02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D6F6-1478-4390-84D1-1C980BE0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CFB1-BD78-4E2F-AF30-38B92490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0E58-AE6C-4825-8AA5-3D4C1C71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8B9A-CA24-45A0-B3D5-670AD8DB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68E8-B494-432D-B349-8AE24ACE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71A5-50AA-46F3-AE37-93E73E7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663-20EC-4E73-A3E8-F600EED8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9DE6-EC4A-42B5-B16F-B1216FD6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1DE1-98BA-4297-8A2C-7D1BE21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36A1-9093-4641-A2AD-06B9CB9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259C-4AE6-4CF2-851E-13B0D30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D593-0260-4309-9C13-17FCD66A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2D22-1959-4125-A318-7CC9D51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453D-3FFA-436C-98EA-27B7DD4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1DF4-0D00-44D3-8230-9D2D49A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B0AA-43FE-4E46-A4FB-07530D12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239C-8D54-430B-89A4-0AAEBEE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95D-54DA-41BC-83C7-311890C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EAA1-E310-4F68-946D-AB4429E6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43E1-2AF0-43C0-99BD-638CF339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881A-7C7A-496B-AFDE-A76DFAE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EBF4-92E3-4FC5-B5D1-0654968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B84D-8BB1-4F69-86C5-8DB036E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D4397-8ED6-458B-AAE6-E5BE232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32F9-7A68-45A6-AF1C-038FA7E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4033-3311-49D3-AF7C-E48D64C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8D5C-87C7-4FD4-A21C-D2393C8A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081A-3328-477B-9C9A-8F48DCDA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C44-9A9F-4394-BD6A-1E723DF8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6B040-2710-4412-9EC9-F73C40C1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D17-BABC-4C4D-A2B9-D49F062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054-77EC-463F-83E7-CB1125B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EBE-67A1-40AA-B652-5FD1333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839-3D45-4330-986B-B65486DC2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703-6BC3-4B22-BEF5-F2ADD24E5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240" y="6675480"/>
            <a:ext cx="9153720" cy="189000"/>
            <a:chOff x="-3240" y="6675480"/>
            <a:chExt cx="9153720" cy="189000"/>
          </a:xfrm>
        </p:grpSpPr>
        <p:pic>
          <p:nvPicPr>
            <p:cNvPr id="83" name="矩形 6" descr=""/>
            <p:cNvPicPr/>
            <p:nvPr/>
          </p:nvPicPr>
          <p:blipFill>
            <a:blip r:embed="rId3"/>
            <a:stretch/>
          </p:blipFill>
          <p:spPr>
            <a:xfrm>
              <a:off x="-3240" y="6675480"/>
              <a:ext cx="91537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2880" y="6678720"/>
              <a:ext cx="9141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-3240" y="-3240"/>
            <a:ext cx="9153720" cy="119160"/>
            <a:chOff x="-3240" y="-3240"/>
            <a:chExt cx="9153720" cy="119160"/>
          </a:xfrm>
        </p:grpSpPr>
        <p:pic>
          <p:nvPicPr>
            <p:cNvPr id="86" name="矩形 7" descr=""/>
            <p:cNvPicPr/>
            <p:nvPr/>
          </p:nvPicPr>
          <p:blipFill>
            <a:blip r:embed="rId4"/>
            <a:stretch/>
          </p:blipFill>
          <p:spPr>
            <a:xfrm>
              <a:off x="-3240" y="-3240"/>
              <a:ext cx="915372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2880" y="2880"/>
              <a:ext cx="9141120" cy="1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2D9-FD78-4305-83AD-ADA4B6967E42}" type="slidenum">
              <a:rPr b="0" lang="zh-CN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3240" y="6675480"/>
            <a:ext cx="9153720" cy="189000"/>
            <a:chOff x="-3240" y="6675480"/>
            <a:chExt cx="9153720" cy="189000"/>
          </a:xfrm>
        </p:grpSpPr>
        <p:pic>
          <p:nvPicPr>
            <p:cNvPr id="130" name="矩形 6" descr=""/>
            <p:cNvPicPr/>
            <p:nvPr/>
          </p:nvPicPr>
          <p:blipFill>
            <a:blip r:embed="rId3"/>
            <a:stretch/>
          </p:blipFill>
          <p:spPr>
            <a:xfrm>
              <a:off x="-3240" y="6675480"/>
              <a:ext cx="91537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"/>
            <p:cNvSpPr/>
            <p:nvPr/>
          </p:nvSpPr>
          <p:spPr>
            <a:xfrm>
              <a:off x="2880" y="6678720"/>
              <a:ext cx="9141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32" name="Group 5"/>
          <p:cNvGrpSpPr/>
          <p:nvPr/>
        </p:nvGrpSpPr>
        <p:grpSpPr>
          <a:xfrm>
            <a:off x="-3240" y="-3240"/>
            <a:ext cx="9153720" cy="119160"/>
            <a:chOff x="-3240" y="-3240"/>
            <a:chExt cx="9153720" cy="119160"/>
          </a:xfrm>
        </p:grpSpPr>
        <p:pic>
          <p:nvPicPr>
            <p:cNvPr id="133" name="矩形 7" descr=""/>
            <p:cNvPicPr/>
            <p:nvPr/>
          </p:nvPicPr>
          <p:blipFill>
            <a:blip r:embed="rId4"/>
            <a:stretch/>
          </p:blipFill>
          <p:spPr>
            <a:xfrm>
              <a:off x="-3240" y="-3240"/>
              <a:ext cx="915372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2880" y="2880"/>
              <a:ext cx="9141120" cy="1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450720" y="1407960"/>
            <a:ext cx="8242200" cy="23760"/>
            <a:chOff x="450720" y="1407960"/>
            <a:chExt cx="8242200" cy="23760"/>
          </a:xfrm>
        </p:grpSpPr>
        <p:pic>
          <p:nvPicPr>
            <p:cNvPr id="136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20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457200" y="1411200"/>
              <a:ext cx="8229600" cy="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5D70-2DBF-4159-9A72-02C6DEE3FE48}" type="slidenum">
              <a:rPr b="0" lang="zh-CN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-3240" y="6675480"/>
            <a:ext cx="9153720" cy="189000"/>
            <a:chOff x="-3240" y="6675480"/>
            <a:chExt cx="9153720" cy="189000"/>
          </a:xfrm>
        </p:grpSpPr>
        <p:pic>
          <p:nvPicPr>
            <p:cNvPr id="180" name="矩形 6" descr=""/>
            <p:cNvPicPr/>
            <p:nvPr/>
          </p:nvPicPr>
          <p:blipFill>
            <a:blip r:embed="rId3"/>
            <a:stretch/>
          </p:blipFill>
          <p:spPr>
            <a:xfrm>
              <a:off x="-3240" y="6675480"/>
              <a:ext cx="91537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4"/>
            <p:cNvSpPr/>
            <p:nvPr/>
          </p:nvSpPr>
          <p:spPr>
            <a:xfrm>
              <a:off x="2880" y="6678720"/>
              <a:ext cx="9141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82" name="Group 5"/>
          <p:cNvGrpSpPr/>
          <p:nvPr/>
        </p:nvGrpSpPr>
        <p:grpSpPr>
          <a:xfrm>
            <a:off x="-3240" y="-3240"/>
            <a:ext cx="9153720" cy="119160"/>
            <a:chOff x="-3240" y="-3240"/>
            <a:chExt cx="9153720" cy="119160"/>
          </a:xfrm>
        </p:grpSpPr>
        <p:pic>
          <p:nvPicPr>
            <p:cNvPr id="183" name="矩形 7" descr=""/>
            <p:cNvPicPr/>
            <p:nvPr/>
          </p:nvPicPr>
          <p:blipFill>
            <a:blip r:embed="rId4"/>
            <a:stretch/>
          </p:blipFill>
          <p:spPr>
            <a:xfrm>
              <a:off x="-3240" y="-3240"/>
              <a:ext cx="915372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7"/>
            <p:cNvSpPr/>
            <p:nvPr/>
          </p:nvSpPr>
          <p:spPr>
            <a:xfrm>
              <a:off x="2880" y="2880"/>
              <a:ext cx="9141120" cy="1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DA16-D941-4582-8144-BEC430353F7A}" type="slidenum">
              <a:rPr b="0" lang="zh-CN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wmf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1.gif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2.jpeg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22.png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23.png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3.jpeg"/><Relationship Id="rId5" Type="http://schemas.openxmlformats.org/officeDocument/2006/relationships/audio" Target="../media/Failed.WAV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2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2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exercise 4"/>
          <p:cNvPicPr/>
          <p:nvPr/>
        </p:nvPicPr>
        <p:blipFill>
          <a:blip r:embed="rId2"/>
          <a:stretch/>
        </p:blipFill>
        <p:spPr>
          <a:xfrm>
            <a:off x="2484360" y="2565360"/>
            <a:ext cx="4537080" cy="3643200"/>
          </a:xfrm>
          <a:prstGeom prst="rect">
            <a:avLst/>
          </a:prstGeom>
          <a:ln w="0">
            <a:noFill/>
          </a:ln>
        </p:spPr>
      </p:pic>
      <p:pic>
        <p:nvPicPr>
          <p:cNvPr id="227" name="WordArt 3" descr=""/>
          <p:cNvPicPr/>
          <p:nvPr/>
        </p:nvPicPr>
        <p:blipFill>
          <a:blip r:embed="rId3"/>
          <a:stretch/>
        </p:blipFill>
        <p:spPr>
          <a:xfrm>
            <a:off x="841320" y="2120760"/>
            <a:ext cx="69120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WordArt 4" descr=""/>
          <p:cNvPicPr/>
          <p:nvPr/>
        </p:nvPicPr>
        <p:blipFill>
          <a:blip r:embed="rId4"/>
          <a:stretch/>
        </p:blipFill>
        <p:spPr>
          <a:xfrm>
            <a:off x="3736800" y="1468440"/>
            <a:ext cx="1730520" cy="58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920" y="10537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usually do on weekend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lways/usually/often/sometimes watch TV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often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多久一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do you watchTV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atch T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771640" y="2349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very day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700360" y="2925720"/>
            <a:ext cx="39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nce a wee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484360" y="3429000"/>
            <a:ext cx="39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wice  a wee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2411280" y="4076640"/>
            <a:ext cx="56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ree times  a month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95280" y="5157720"/>
            <a:ext cx="57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never watch TV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8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Oral practice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ff"/>
                </a:solidFill>
                <a:latin typeface="Franklin Gothic Book"/>
              </a:rPr>
              <a:t>How often do you do these activities?</a:t>
            </a:r>
            <a:endParaRPr b="0" lang="en-US" sz="3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7" name="Picture 4" descr="do homework3"/>
          <p:cNvPicPr/>
          <p:nvPr/>
        </p:nvPicPr>
        <p:blipFill>
          <a:blip r:embed="rId2"/>
          <a:stretch/>
        </p:blipFill>
        <p:spPr>
          <a:xfrm>
            <a:off x="468360" y="220500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4067280" y="2637000"/>
            <a:ext cx="35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homework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311720" y="342900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ry day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95280" y="4797360"/>
            <a:ext cx="8534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do you do your homework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I do my homework every day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exercise 2"/>
          <p:cNvPicPr/>
          <p:nvPr/>
        </p:nvPicPr>
        <p:blipFill>
          <a:blip r:embed="rId2"/>
          <a:stretch/>
        </p:blipFill>
        <p:spPr>
          <a:xfrm>
            <a:off x="324000" y="333360"/>
            <a:ext cx="3054240" cy="3537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exercise 4"/>
          <p:cNvPicPr/>
          <p:nvPr/>
        </p:nvPicPr>
        <p:blipFill>
          <a:blip r:embed="rId3"/>
          <a:stretch/>
        </p:blipFill>
        <p:spPr>
          <a:xfrm>
            <a:off x="4643280" y="333360"/>
            <a:ext cx="3886200" cy="28576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3348000" y="4046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Comic Sans MS"/>
              </a:rPr>
              <a:t>exercise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284720" y="3141720"/>
            <a:ext cx="44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Comic Sans MS"/>
              </a:rPr>
              <a:t>three times a week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684360" y="4869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do you exercise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I exercise ...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74"/>
          <p:cNvPicPr/>
          <p:nvPr/>
        </p:nvPicPr>
        <p:blipFill>
          <a:blip r:embed="rId2"/>
          <a:stretch/>
        </p:blipFill>
        <p:spPr>
          <a:xfrm>
            <a:off x="6445080" y="549360"/>
            <a:ext cx="2133720" cy="2819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star"/>
          <p:cNvPicPr/>
          <p:nvPr/>
        </p:nvPicPr>
        <p:blipFill>
          <a:blip r:embed="rId3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star"/>
          <p:cNvPicPr/>
          <p:nvPr/>
        </p:nvPicPr>
        <p:blipFill>
          <a:blip r:embed="rId4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3348000" y="404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play basketball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 flipV="1" rot="10740000">
            <a:off x="3563640" y="2276640"/>
            <a:ext cx="35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once a week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do you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I ..... once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a week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random/>
    <p:sndAc>
      <p:stSnd>
        <p:snd r:embed="rId5" name="Faile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4" descr="star"/>
          <p:cNvPicPr/>
          <p:nvPr/>
        </p:nvPicPr>
        <p:blipFill>
          <a:blip r:embed="rId2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star"/>
          <p:cNvPicPr/>
          <p:nvPr/>
        </p:nvPicPr>
        <p:blipFill>
          <a:blip r:embed="rId3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3348000" y="404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play football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 flipV="1" rot="10740000">
            <a:off x="3563640" y="2276640"/>
            <a:ext cx="35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twice a week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do you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I ..... twice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a week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37" name="Picture 3" descr="BD00013_"/>
          <p:cNvPicPr/>
          <p:nvPr/>
        </p:nvPicPr>
        <p:blipFill>
          <a:blip r:embed="rId4"/>
          <a:stretch/>
        </p:blipFill>
        <p:spPr>
          <a:xfrm>
            <a:off x="6877080" y="148428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Faile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4" descr="star"/>
          <p:cNvPicPr/>
          <p:nvPr/>
        </p:nvPicPr>
        <p:blipFill>
          <a:blip r:embed="rId2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5" descr="star"/>
          <p:cNvPicPr/>
          <p:nvPr/>
        </p:nvPicPr>
        <p:blipFill>
          <a:blip r:embed="rId3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900000" y="404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play computer games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 flipV="1" rot="10740000">
            <a:off x="3347640" y="1772640"/>
            <a:ext cx="35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every day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does he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He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plays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 ..... 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every day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43" name="Picture 4" descr="054"/>
          <p:cNvPicPr/>
          <p:nvPr/>
        </p:nvPicPr>
        <p:blipFill>
          <a:blip r:embed="rId4"/>
          <a:stretch/>
        </p:blipFill>
        <p:spPr>
          <a:xfrm>
            <a:off x="6804000" y="260280"/>
            <a:ext cx="251460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Faile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4" descr="star"/>
          <p:cNvPicPr/>
          <p:nvPr/>
        </p:nvPicPr>
        <p:blipFill>
          <a:blip r:embed="rId2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5" descr="star"/>
          <p:cNvPicPr/>
          <p:nvPr/>
        </p:nvPicPr>
        <p:blipFill>
          <a:blip r:embed="rId3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900000" y="404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read books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 flipV="1" rot="10800000">
            <a:off x="1120680" y="1770840"/>
            <a:ext cx="53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three times a week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does he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He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reads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 ..... three times a week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49" name="Picture 10" descr="读书"/>
          <p:cNvPicPr/>
          <p:nvPr/>
        </p:nvPicPr>
        <p:blipFill>
          <a:blip r:embed="rId4"/>
          <a:stretch/>
        </p:blipFill>
        <p:spPr>
          <a:xfrm>
            <a:off x="6084720" y="1557360"/>
            <a:ext cx="304812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Faile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4" descr="star"/>
          <p:cNvPicPr/>
          <p:nvPr/>
        </p:nvPicPr>
        <p:blipFill>
          <a:blip r:embed="rId2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5" descr="star"/>
          <p:cNvPicPr/>
          <p:nvPr/>
        </p:nvPicPr>
        <p:blipFill>
          <a:blip r:embed="rId3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900000" y="404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help with housework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 flipV="1" rot="10800000">
            <a:off x="1120680" y="1770840"/>
            <a:ext cx="53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twice a month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does she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She helps ..... twice a month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55" name="Picture 7" descr="儿童节韩国儿童矢量素材 - 男孩女孩篇 - 男孩女孩向量图77"/>
          <p:cNvPicPr/>
          <p:nvPr/>
        </p:nvPicPr>
        <p:blipFill>
          <a:blip r:embed="rId4"/>
          <a:stretch/>
        </p:blipFill>
        <p:spPr>
          <a:xfrm>
            <a:off x="6012000" y="765000"/>
            <a:ext cx="212400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Faile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4" descr="star"/>
          <p:cNvPicPr/>
          <p:nvPr/>
        </p:nvPicPr>
        <p:blipFill>
          <a:blip r:embed="rId2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star"/>
          <p:cNvPicPr/>
          <p:nvPr/>
        </p:nvPicPr>
        <p:blipFill>
          <a:blip r:embed="rId3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900000" y="404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go shopping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 flipV="1" rot="10800000">
            <a:off x="1120680" y="1770840"/>
            <a:ext cx="53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once a month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does she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She goes ..... once a month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61" name="Picture 7" descr="shopping_01[1]"/>
          <p:cNvPicPr/>
          <p:nvPr/>
        </p:nvPicPr>
        <p:blipFill>
          <a:blip r:embed="rId4"/>
          <a:stretch/>
        </p:blipFill>
        <p:spPr>
          <a:xfrm>
            <a:off x="6084720" y="1484280"/>
            <a:ext cx="2016360" cy="198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Faile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4" descr="star"/>
          <p:cNvPicPr/>
          <p:nvPr/>
        </p:nvPicPr>
        <p:blipFill>
          <a:blip r:embed="rId2"/>
          <a:stretch/>
        </p:blipFill>
        <p:spPr>
          <a:xfrm>
            <a:off x="5410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star"/>
          <p:cNvPicPr/>
          <p:nvPr/>
        </p:nvPicPr>
        <p:blipFill>
          <a:blip r:embed="rId3"/>
          <a:stretch/>
        </p:blipFill>
        <p:spPr>
          <a:xfrm>
            <a:off x="2133720" y="457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900000" y="404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go to the movies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 flipV="1" rot="10800000">
            <a:off x="1120680" y="1770840"/>
            <a:ext cx="53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Comic Sans MS"/>
              </a:rPr>
              <a:t>twice a month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50920" y="4437000"/>
            <a:ext cx="784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A: How often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do they....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B: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They ..... 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twice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 a month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67" name="Picture 7" descr="0019b91ec6f7082121c102"/>
          <p:cNvPicPr/>
          <p:nvPr/>
        </p:nvPicPr>
        <p:blipFill>
          <a:blip r:embed="rId4"/>
          <a:stretch/>
        </p:blipFill>
        <p:spPr>
          <a:xfrm>
            <a:off x="4932360" y="981000"/>
            <a:ext cx="3887640" cy="295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Fail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786400" y="1989000"/>
            <a:ext cx="35715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"/>
              </a:rPr>
              <a:t>Section A</a:t>
            </a:r>
            <a:endParaRPr b="1" lang="en-US" sz="5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"/>
              </a:rPr>
              <a:t>Period One</a:t>
            </a:r>
            <a:endParaRPr b="1" lang="en-US" sz="5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2c.How often do you do these activities? Fill in the chart and do a report about your partner.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04920" y="1600200"/>
          <a:ext cx="4114800" cy="4525920"/>
        </p:xfrm>
        <a:graphic>
          <a:graphicData uri="http://schemas.openxmlformats.org/drawingml/2006/table">
            <a:tbl>
              <a:tblPr/>
              <a:tblGrid>
                <a:gridCol w="2395440"/>
                <a:gridCol w="17193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Activities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How often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watch TV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every day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use the Internet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read English books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go to the movies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47546"/>
                          </a:solidFill>
                          <a:latin typeface="Franklin Gothic Book"/>
                          <a:ea typeface="黑体"/>
                        </a:rPr>
                        <a:t>exercise</a:t>
                      </a:r>
                      <a:endPara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28"/>
          <p:cNvSpPr/>
          <p:nvPr/>
        </p:nvSpPr>
        <p:spPr>
          <a:xfrm>
            <a:off x="3111480" y="3848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1" name="Text Box 29"/>
          <p:cNvSpPr/>
          <p:nvPr/>
        </p:nvSpPr>
        <p:spPr>
          <a:xfrm>
            <a:off x="2772000" y="4005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Rectangle 30"/>
          <p:cNvSpPr/>
          <p:nvPr/>
        </p:nvSpPr>
        <p:spPr>
          <a:xfrm>
            <a:off x="2700360" y="4724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yea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2627280" y="55227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a week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4" name="Text Box 29"/>
          <p:cNvSpPr/>
          <p:nvPr/>
        </p:nvSpPr>
        <p:spPr>
          <a:xfrm>
            <a:off x="2843280" y="3141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imes a week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572000" y="26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y deskmate watches TV every day. He/She uses…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76" name="WordArt 32" descr=""/>
          <p:cNvPicPr/>
          <p:nvPr/>
        </p:nvPicPr>
        <p:blipFill>
          <a:blip r:embed="rId2"/>
          <a:stretch/>
        </p:blipFill>
        <p:spPr>
          <a:xfrm>
            <a:off x="4846680" y="1981080"/>
            <a:ext cx="3425760" cy="61596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33"/>
          <p:cNvGrpSpPr/>
          <p:nvPr/>
        </p:nvGrpSpPr>
        <p:grpSpPr>
          <a:xfrm>
            <a:off x="4716360" y="4580640"/>
            <a:ext cx="3801240" cy="1076760"/>
            <a:chOff x="4716360" y="4580640"/>
            <a:chExt cx="3801240" cy="1076760"/>
          </a:xfrm>
        </p:grpSpPr>
        <p:pic>
          <p:nvPicPr>
            <p:cNvPr id="378" name="WordArt 34" descr=""/>
            <p:cNvPicPr/>
            <p:nvPr/>
          </p:nvPicPr>
          <p:blipFill>
            <a:blip r:embed="rId3"/>
            <a:stretch/>
          </p:blipFill>
          <p:spPr>
            <a:xfrm>
              <a:off x="4716360" y="4581360"/>
              <a:ext cx="55296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AutoShape 35"/>
            <p:cNvSpPr/>
            <p:nvPr/>
          </p:nvSpPr>
          <p:spPr>
            <a:xfrm>
              <a:off x="4768920" y="4580640"/>
              <a:ext cx="3748680" cy="1076760"/>
            </a:xfrm>
            <a:prstGeom prst="flowChartPunchedTap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How often does...?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Franklin Gothic Medium"/>
              </a:rPr>
              <a:t>趁热打铁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多久一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帮助做家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几乎不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去购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使用电脑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一周一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一月两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Franklin Gothic Book"/>
              </a:rPr>
              <a:t>一周三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68720" y="1557000"/>
            <a:ext cx="40384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how oft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help with housewor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hardly eve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go shoppin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use the compute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once a we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twice a mont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11920" indent="-5119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Franklin Gothic Book"/>
              </a:rPr>
              <a:t>three times a we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AutoShape 5"/>
          <p:cNvSpPr/>
          <p:nvPr/>
        </p:nvSpPr>
        <p:spPr>
          <a:xfrm>
            <a:off x="7093080" y="0"/>
            <a:ext cx="934920" cy="184464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1+1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in Fang sometimes ______(shop) with her mother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y go swimming ________(one) a week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an you speak loudly(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大声地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？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 can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_____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(hard) hear you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He ________(usual) reads books in the librar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andy always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 help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 her mother ________(cook) dinner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52720" y="126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p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3995640" y="1844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ce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020000" y="234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rdl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476360" y="3141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ually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6012000" y="371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940360" y="43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cook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2" name="Oval 10"/>
          <p:cNvSpPr/>
          <p:nvPr/>
        </p:nvSpPr>
        <p:spPr>
          <a:xfrm>
            <a:off x="684360" y="1268280"/>
            <a:ext cx="1726920" cy="6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58560" y="80928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aur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goes to the movies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_____ ______ _____ Laura _____ to the movie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. They exerci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twice a week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to keep health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_____ ______ do they exercise to keep healthy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. My favorite program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CCTV News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______ _____ _______ favorite program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4. He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reads newspapers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on Friday afternoon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_______ _____ he usually ______ on Friday afternoon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79280" y="1197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 often   doe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645080" y="112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50920" y="220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 often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24000" y="3284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  is      your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4221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   does                    do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Franklin Gothic Medium"/>
              </a:rPr>
              <a:t>3a.Complete the questions with do or does. Then match the questions and answers.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.How often ____ he play soccer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.____ you drink milk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.How often ____ they stay up late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4.____ Sue eat a healthy breakfas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5.How often ____ you eat apple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6.____ your parents play sport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7524720" y="1700280"/>
            <a:ext cx="1008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2644920" y="164304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073880" y="21430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787840" y="2571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757800" y="306864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2702160" y="364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04508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5943600" y="1828800"/>
            <a:ext cx="160020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9" name="Line 12"/>
          <p:cNvSpPr/>
          <p:nvPr/>
        </p:nvSpPr>
        <p:spPr>
          <a:xfrm>
            <a:off x="4114800" y="2362320"/>
            <a:ext cx="3429000" cy="2057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0" name="Line 13"/>
          <p:cNvSpPr/>
          <p:nvPr/>
        </p:nvSpPr>
        <p:spPr>
          <a:xfrm>
            <a:off x="6248520" y="2895480"/>
            <a:ext cx="12952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1" name="Line 14"/>
          <p:cNvSpPr/>
          <p:nvPr/>
        </p:nvSpPr>
        <p:spPr>
          <a:xfrm flipV="1">
            <a:off x="6095880" y="1981080"/>
            <a:ext cx="137160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2" name="Line 15"/>
          <p:cNvSpPr/>
          <p:nvPr/>
        </p:nvSpPr>
        <p:spPr>
          <a:xfrm flipV="1">
            <a:off x="5943600" y="2361960"/>
            <a:ext cx="160020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Line 16"/>
          <p:cNvSpPr/>
          <p:nvPr/>
        </p:nvSpPr>
        <p:spPr>
          <a:xfrm flipV="1">
            <a:off x="5791320" y="3428640"/>
            <a:ext cx="167616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768760" y="1989000"/>
            <a:ext cx="360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"/>
              </a:rPr>
              <a:t>Section A</a:t>
            </a:r>
            <a:endParaRPr b="1" lang="en-US" sz="5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"/>
              </a:rPr>
              <a:t>Period Two</a:t>
            </a:r>
            <a:endParaRPr b="1" lang="en-US" sz="5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What do you do on weekend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B: I always/usually/often/sometimes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A: How often do you…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B: I…every day/once a week/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C: What does B do on weekend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D: He/She always/usually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C: How often does he/she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D: He/She…every day/once a week/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7" name="WordArt 4" descr=""/>
          <p:cNvPicPr/>
          <p:nvPr/>
        </p:nvPicPr>
        <p:blipFill>
          <a:blip r:embed="rId2"/>
          <a:stretch/>
        </p:blipFill>
        <p:spPr>
          <a:xfrm>
            <a:off x="3121200" y="390600"/>
            <a:ext cx="351756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pic_277098"/>
          <p:cNvPicPr/>
          <p:nvPr/>
        </p:nvPicPr>
        <p:blipFill>
          <a:blip r:embed="rId2"/>
          <a:srcRect l="21661" t="16947" r="2045" b="46619"/>
          <a:stretch/>
        </p:blipFill>
        <p:spPr>
          <a:xfrm>
            <a:off x="2052720" y="1268280"/>
            <a:ext cx="6983280" cy="3816360"/>
          </a:xfrm>
          <a:prstGeom prst="rect">
            <a:avLst/>
          </a:prstGeom>
          <a:ln w="0">
            <a:noFill/>
          </a:ln>
        </p:spPr>
      </p:pic>
      <p:sp>
        <p:nvSpPr>
          <p:cNvPr id="419" name="Oval 3"/>
          <p:cNvSpPr/>
          <p:nvPr/>
        </p:nvSpPr>
        <p:spPr>
          <a:xfrm>
            <a:off x="179280" y="260280"/>
            <a:ext cx="6494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700e2"/>
                </a:solidFill>
                <a:latin typeface="Arial Black"/>
                <a:ea typeface="黑体"/>
              </a:rPr>
              <a:t>1a</a:t>
            </a:r>
            <a:endParaRPr b="1" lang="en-US" sz="3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900000" y="189000"/>
            <a:ext cx="78487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ook at the picture. Make a list of the different weekend activities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79280" y="3573360"/>
            <a:ext cx="4392720" cy="3110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lp with housework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____________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____________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______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____________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685440" y="4221000"/>
            <a:ext cx="23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book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634680" y="479736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612360" y="545148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tch TV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666000" y="5972040"/>
            <a:ext cx="2532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 shopping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and F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r: What do you usually do on week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1: I ___________ go shop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1: I _______ go shopping. I usually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2: I _________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2: I often 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r: How about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3: I____________ watch TV. I _______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r: Oh, why is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3: Oh, I don’t know. I guess I just like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1116000" y="1341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258920" y="1773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ver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227640" y="1773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tch TV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332000" y="2349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2124000" y="2781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lp with housewor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187280" y="3860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rdly ever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5435640" y="378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5" name="AutoShape 11"/>
          <p:cNvSpPr/>
          <p:nvPr/>
        </p:nvSpPr>
        <p:spPr>
          <a:xfrm>
            <a:off x="7236000" y="333360"/>
            <a:ext cx="1009440" cy="574560"/>
          </a:xfrm>
          <a:custGeom>
            <a:avLst/>
            <a:gdLst>
              <a:gd name="textAreaLeft" fmla="*/ 35640 w 1009440"/>
              <a:gd name="textAreaRight" fmla="*/ 973800 w 1009440"/>
              <a:gd name="textAreaTop" fmla="*/ 35640 h 574560"/>
              <a:gd name="textAreaBottom" fmla="*/ 538920 h 574560"/>
            </a:gdLst>
            <a:ahLst/>
            <a:rect l="textAreaLeft" t="textAreaTop" r="textAreaRight" b="textAreaBottom"/>
            <a:pathLst>
              <a:path w="37939" h="21600">
                <a:moveTo>
                  <a:pt x="0" y="0"/>
                </a:moveTo>
                <a:lnTo>
                  <a:pt x="37939" y="0"/>
                </a:lnTo>
                <a:lnTo>
                  <a:pt x="37939" y="21600"/>
                </a:lnTo>
                <a:lnTo>
                  <a:pt x="0" y="21600"/>
                </a:lnTo>
                <a:close/>
              </a:path>
              <a:path fill="lightenLess" w="37939" h="21600">
                <a:moveTo>
                  <a:pt x="0" y="0"/>
                </a:moveTo>
                <a:lnTo>
                  <a:pt x="37939" y="0"/>
                </a:lnTo>
                <a:lnTo>
                  <a:pt x="36589" y="1350"/>
                </a:lnTo>
                <a:lnTo>
                  <a:pt x="1350" y="1350"/>
                </a:lnTo>
                <a:close/>
              </a:path>
              <a:path fill="darken" w="37939" h="21600">
                <a:moveTo>
                  <a:pt x="37939" y="0"/>
                </a:moveTo>
                <a:lnTo>
                  <a:pt x="37939" y="21600"/>
                </a:lnTo>
                <a:lnTo>
                  <a:pt x="36589" y="20250"/>
                </a:lnTo>
                <a:lnTo>
                  <a:pt x="36589" y="1350"/>
                </a:lnTo>
                <a:close/>
              </a:path>
              <a:path fill="darkenLess" w="37939" h="21600">
                <a:moveTo>
                  <a:pt x="3793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589" y="20250"/>
                </a:lnTo>
                <a:close/>
              </a:path>
              <a:path fill="lighten" w="3793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939" h="21600">
                <a:moveTo>
                  <a:pt x="11926" y="8394"/>
                </a:moveTo>
                <a:lnTo>
                  <a:pt x="16379" y="8394"/>
                </a:lnTo>
                <a:lnTo>
                  <a:pt x="20824" y="3756"/>
                </a:lnTo>
                <a:lnTo>
                  <a:pt x="20824" y="17844"/>
                </a:lnTo>
                <a:lnTo>
                  <a:pt x="16379" y="13206"/>
                </a:lnTo>
                <a:lnTo>
                  <a:pt x="11926" y="13206"/>
                </a:lnTo>
                <a:close/>
              </a:path>
              <a:path fill="darken" w="37939" h="21600">
                <a:moveTo>
                  <a:pt x="22487" y="10800"/>
                </a:moveTo>
                <a:lnTo>
                  <a:pt x="26013" y="10800"/>
                </a:lnTo>
              </a:path>
              <a:path fill="darken" w="37939" h="21600">
                <a:moveTo>
                  <a:pt x="22487" y="8394"/>
                </a:moveTo>
                <a:lnTo>
                  <a:pt x="26013" y="5611"/>
                </a:lnTo>
              </a:path>
              <a:path fill="darken" w="37939" h="21600">
                <a:moveTo>
                  <a:pt x="22487" y="13206"/>
                </a:moveTo>
                <a:lnTo>
                  <a:pt x="26013" y="15989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5638320" y="175248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ce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ce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609480" y="17524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ti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__ go to the movi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__ watch TV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__ shop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__ exercise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__ read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83600" y="189000"/>
            <a:ext cx="892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a.Listen. Cheng Tao is talking about how often he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oes these activities. Number the activities[1-5]in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rder you hear them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9" name="Line 5"/>
          <p:cNvSpPr/>
          <p:nvPr/>
        </p:nvSpPr>
        <p:spPr>
          <a:xfrm>
            <a:off x="3124080" y="3048120"/>
            <a:ext cx="2514600" cy="5331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976680" y="2732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992520" y="32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992520" y="3733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990720" y="220968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992520" y="4267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5" name="Line 11"/>
          <p:cNvSpPr/>
          <p:nvPr/>
        </p:nvSpPr>
        <p:spPr>
          <a:xfrm flipV="1">
            <a:off x="2209680" y="2590560"/>
            <a:ext cx="3505320" cy="198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4114800" y="2514600"/>
            <a:ext cx="1523880" cy="20574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2819520" y="4038480"/>
            <a:ext cx="2971800" cy="763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2286000" y="3581280"/>
            <a:ext cx="3505320" cy="1524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9" name="Text Box 15"/>
          <p:cNvSpPr/>
          <p:nvPr/>
        </p:nvSpPr>
        <p:spPr>
          <a:xfrm>
            <a:off x="684360" y="515772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ow often does Cheng Tao </a:t>
            </a: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watch T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He watches TV </a:t>
            </a: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twice a wee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0" name="AutoShape 16"/>
          <p:cNvSpPr/>
          <p:nvPr/>
        </p:nvSpPr>
        <p:spPr>
          <a:xfrm>
            <a:off x="6156360" y="1162080"/>
            <a:ext cx="792000" cy="717480"/>
          </a:xfrm>
          <a:custGeom>
            <a:avLst/>
            <a:gdLst>
              <a:gd name="textAreaLeft" fmla="*/ 44640 w 792000"/>
              <a:gd name="textAreaRight" fmla="*/ 747360 w 792000"/>
              <a:gd name="textAreaTop" fmla="*/ 44640 h 717480"/>
              <a:gd name="textAreaBottom" fmla="*/ 672840 h 717480"/>
            </a:gdLst>
            <a:ahLst/>
            <a:rect l="textAreaLeft" t="textAreaTop" r="textAreaRight" b="textAreaBottom"/>
            <a:pathLst>
              <a:path w="23842" h="21600">
                <a:moveTo>
                  <a:pt x="0" y="0"/>
                </a:moveTo>
                <a:lnTo>
                  <a:pt x="23842" y="0"/>
                </a:lnTo>
                <a:lnTo>
                  <a:pt x="23842" y="21600"/>
                </a:lnTo>
                <a:lnTo>
                  <a:pt x="0" y="21600"/>
                </a:lnTo>
                <a:close/>
              </a:path>
              <a:path fill="lightenLess" w="23842" h="21600">
                <a:moveTo>
                  <a:pt x="0" y="0"/>
                </a:moveTo>
                <a:lnTo>
                  <a:pt x="23842" y="0"/>
                </a:lnTo>
                <a:lnTo>
                  <a:pt x="22492" y="1350"/>
                </a:lnTo>
                <a:lnTo>
                  <a:pt x="1350" y="1350"/>
                </a:lnTo>
                <a:close/>
              </a:path>
              <a:path fill="darken" w="23842" h="21600">
                <a:moveTo>
                  <a:pt x="23842" y="0"/>
                </a:moveTo>
                <a:lnTo>
                  <a:pt x="23842" y="21600"/>
                </a:lnTo>
                <a:lnTo>
                  <a:pt x="22492" y="20250"/>
                </a:lnTo>
                <a:lnTo>
                  <a:pt x="22492" y="1350"/>
                </a:lnTo>
                <a:close/>
              </a:path>
              <a:path fill="darkenLess" w="23842" h="21600">
                <a:moveTo>
                  <a:pt x="238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492" y="20250"/>
                </a:lnTo>
                <a:close/>
              </a:path>
              <a:path fill="lighten" w="238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842" h="21600">
                <a:moveTo>
                  <a:pt x="4877" y="8394"/>
                </a:moveTo>
                <a:lnTo>
                  <a:pt x="9331" y="8394"/>
                </a:lnTo>
                <a:lnTo>
                  <a:pt x="13776" y="3756"/>
                </a:lnTo>
                <a:lnTo>
                  <a:pt x="13776" y="17844"/>
                </a:lnTo>
                <a:lnTo>
                  <a:pt x="9331" y="13206"/>
                </a:lnTo>
                <a:lnTo>
                  <a:pt x="4877" y="13206"/>
                </a:lnTo>
                <a:close/>
              </a:path>
              <a:path fill="darken" w="23842" h="21600">
                <a:moveTo>
                  <a:pt x="15439" y="10800"/>
                </a:moveTo>
                <a:lnTo>
                  <a:pt x="18965" y="10800"/>
                </a:lnTo>
              </a:path>
              <a:path fill="darken" w="23842" h="21600">
                <a:moveTo>
                  <a:pt x="15439" y="8394"/>
                </a:moveTo>
                <a:lnTo>
                  <a:pt x="18965" y="5611"/>
                </a:lnTo>
              </a:path>
              <a:path fill="darken" w="23842" h="21600">
                <a:moveTo>
                  <a:pt x="15439" y="13206"/>
                </a:moveTo>
                <a:lnTo>
                  <a:pt x="18965" y="15989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1" name="AutoShape 17"/>
          <p:cNvSpPr/>
          <p:nvPr/>
        </p:nvSpPr>
        <p:spPr>
          <a:xfrm>
            <a:off x="7593120" y="1235160"/>
            <a:ext cx="798480" cy="717480"/>
          </a:xfrm>
          <a:custGeom>
            <a:avLst/>
            <a:gdLst>
              <a:gd name="textAreaLeft" fmla="*/ 44640 w 798480"/>
              <a:gd name="textAreaRight" fmla="*/ 753840 w 798480"/>
              <a:gd name="textAreaTop" fmla="*/ 44640 h 717480"/>
              <a:gd name="textAreaBottom" fmla="*/ 672840 h 717480"/>
            </a:gdLst>
            <a:ahLst/>
            <a:rect l="textAreaLeft" t="textAreaTop" r="textAreaRight" b="textAreaBottom"/>
            <a:pathLst>
              <a:path w="24037" h="21600">
                <a:moveTo>
                  <a:pt x="0" y="0"/>
                </a:moveTo>
                <a:lnTo>
                  <a:pt x="24037" y="0"/>
                </a:lnTo>
                <a:lnTo>
                  <a:pt x="24037" y="21600"/>
                </a:lnTo>
                <a:lnTo>
                  <a:pt x="0" y="21600"/>
                </a:lnTo>
                <a:close/>
              </a:path>
              <a:path fill="lightenLess" w="24037" h="21600">
                <a:moveTo>
                  <a:pt x="0" y="0"/>
                </a:moveTo>
                <a:lnTo>
                  <a:pt x="24037" y="0"/>
                </a:lnTo>
                <a:lnTo>
                  <a:pt x="22687" y="1350"/>
                </a:lnTo>
                <a:lnTo>
                  <a:pt x="1350" y="1350"/>
                </a:lnTo>
                <a:close/>
              </a:path>
              <a:path fill="darken" w="24037" h="21600">
                <a:moveTo>
                  <a:pt x="24037" y="0"/>
                </a:moveTo>
                <a:lnTo>
                  <a:pt x="24037" y="21600"/>
                </a:lnTo>
                <a:lnTo>
                  <a:pt x="22687" y="20250"/>
                </a:lnTo>
                <a:lnTo>
                  <a:pt x="22687" y="1350"/>
                </a:lnTo>
                <a:close/>
              </a:path>
              <a:path fill="darkenLess" w="24037" h="21600">
                <a:moveTo>
                  <a:pt x="240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687" y="20250"/>
                </a:lnTo>
                <a:close/>
              </a:path>
              <a:path fill="lighten" w="240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037" h="21600">
                <a:moveTo>
                  <a:pt x="4975" y="8394"/>
                </a:moveTo>
                <a:lnTo>
                  <a:pt x="9429" y="8394"/>
                </a:lnTo>
                <a:lnTo>
                  <a:pt x="13874" y="3756"/>
                </a:lnTo>
                <a:lnTo>
                  <a:pt x="13874" y="17844"/>
                </a:lnTo>
                <a:lnTo>
                  <a:pt x="9429" y="13206"/>
                </a:lnTo>
                <a:lnTo>
                  <a:pt x="4975" y="13206"/>
                </a:lnTo>
                <a:close/>
              </a:path>
              <a:path fill="darken" w="24037" h="21600">
                <a:moveTo>
                  <a:pt x="15536" y="10800"/>
                </a:moveTo>
                <a:lnTo>
                  <a:pt x="19062" y="10800"/>
                </a:lnTo>
              </a:path>
              <a:path fill="darken" w="24037" h="21600">
                <a:moveTo>
                  <a:pt x="15536" y="8394"/>
                </a:moveTo>
                <a:lnTo>
                  <a:pt x="19062" y="5611"/>
                </a:lnTo>
              </a:path>
              <a:path fill="darken" w="24037" h="21600">
                <a:moveTo>
                  <a:pt x="15536" y="13206"/>
                </a:moveTo>
                <a:lnTo>
                  <a:pt x="19062" y="15989"/>
                </a:lnTo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900000" y="2781360"/>
            <a:ext cx="142920" cy="21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11280" y="3141720"/>
            <a:ext cx="142920" cy="180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51280" y="3789360"/>
            <a:ext cx="144360" cy="11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364000" y="4508640"/>
            <a:ext cx="144720" cy="43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804000" y="4797360"/>
            <a:ext cx="14292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3"/>
          <a:stretch/>
        </p:blipFill>
        <p:spPr>
          <a:xfrm>
            <a:off x="1146240" y="2717640"/>
            <a:ext cx="904680" cy="495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4"/>
          <a:stretch/>
        </p:blipFill>
        <p:spPr>
          <a:xfrm>
            <a:off x="2771640" y="3005280"/>
            <a:ext cx="752760" cy="495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5"/>
          <a:stretch/>
        </p:blipFill>
        <p:spPr>
          <a:xfrm>
            <a:off x="4140360" y="3664080"/>
            <a:ext cx="1114200" cy="48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6"/>
          <a:stretch/>
        </p:blipFill>
        <p:spPr>
          <a:xfrm>
            <a:off x="5651640" y="4406760"/>
            <a:ext cx="733320" cy="390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7"/>
          <a:stretch/>
        </p:blipFill>
        <p:spPr>
          <a:xfrm>
            <a:off x="7308720" y="4546440"/>
            <a:ext cx="514440" cy="466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8"/>
          <a:stretch/>
        </p:blipFill>
        <p:spPr>
          <a:xfrm>
            <a:off x="8553600" y="4503600"/>
            <a:ext cx="590400" cy="581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9"/>
          <a:stretch/>
        </p:blipFill>
        <p:spPr>
          <a:xfrm>
            <a:off x="90360" y="5013360"/>
            <a:ext cx="1457280" cy="714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10"/>
          <a:stretch/>
        </p:blipFill>
        <p:spPr>
          <a:xfrm>
            <a:off x="1619280" y="5091120"/>
            <a:ext cx="1523880" cy="714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11"/>
          <a:stretch/>
        </p:blipFill>
        <p:spPr>
          <a:xfrm>
            <a:off x="3203640" y="5084640"/>
            <a:ext cx="1162080" cy="600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"/>
          <p:cNvPicPr/>
          <p:nvPr/>
        </p:nvPicPr>
        <p:blipFill>
          <a:blip r:embed="rId12"/>
          <a:stretch/>
        </p:blipFill>
        <p:spPr>
          <a:xfrm>
            <a:off x="4427640" y="5041800"/>
            <a:ext cx="162864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"/>
          <p:cNvPicPr/>
          <p:nvPr/>
        </p:nvPicPr>
        <p:blipFill>
          <a:blip r:embed="rId13"/>
          <a:stretch/>
        </p:blipFill>
        <p:spPr>
          <a:xfrm>
            <a:off x="6156360" y="5084640"/>
            <a:ext cx="1914480" cy="60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"/>
          <p:cNvPicPr/>
          <p:nvPr/>
        </p:nvPicPr>
        <p:blipFill>
          <a:blip r:embed="rId14"/>
          <a:stretch/>
        </p:blipFill>
        <p:spPr>
          <a:xfrm>
            <a:off x="8086680" y="5157720"/>
            <a:ext cx="105732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Role-Play and Answer:1+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ire busy next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learning swing dance or street d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es she have dance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es she have piano les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Jack want to play tennis with Claire’s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416560" y="895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5580000" y="148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Yes, she is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6" name="Oval 6"/>
          <p:cNvSpPr/>
          <p:nvPr/>
        </p:nvSpPr>
        <p:spPr>
          <a:xfrm>
            <a:off x="3059280" y="2060640"/>
            <a:ext cx="2160360" cy="647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6588000" y="256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ce a week.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702000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ice a week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2411280" y="4365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Yes, he does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week ____ quite _____ for Claire. She has ______ and ______ lessons. She is learning _______ 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摆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She has dancing lessons ______ ____ ______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一周一次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iano lessons ______ _____ 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周两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On Tuesday, Claire has to _______(play) tennis with her friends. Jack wants _________(come),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68360" y="1341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i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995640" y="1341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full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611280" y="1989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dance        piano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11280" y="256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swing      dance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95640" y="3213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once   a     wee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3203640" y="3789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twice  a      wee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478800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play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5148360" y="5157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to come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157320"/>
            <a:ext cx="71848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2d.Role-play the conver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i, Claire, are… next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ai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…next week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当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e, J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ally?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怎么会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ai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dance and piano les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正在学什么类型的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ai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, swing dance. It’s fun! I have clas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周一次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every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do you have piano les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ai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 week, on Wednesday and Fr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ell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lai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, I have to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….. But do you  want to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ac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WordArt 2" descr=""/>
          <p:cNvPicPr/>
          <p:nvPr/>
        </p:nvPicPr>
        <p:blipFill>
          <a:blip r:embed="rId2"/>
          <a:stretch/>
        </p:blipFill>
        <p:spPr>
          <a:xfrm>
            <a:off x="2762280" y="1335240"/>
            <a:ext cx="4522680" cy="265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250920" y="1101600"/>
          <a:ext cx="8229600" cy="5770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Activities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watch TV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use the Internet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xercise 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at junk food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at fruit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stay up late</a:t>
                      </a:r>
                      <a:endParaRPr b="1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WordArt 28" descr=""/>
          <p:cNvPicPr/>
          <p:nvPr/>
        </p:nvPicPr>
        <p:blipFill>
          <a:blip r:embed="rId2"/>
          <a:stretch/>
        </p:blipFill>
        <p:spPr>
          <a:xfrm>
            <a:off x="311040" y="-6480"/>
            <a:ext cx="6596280" cy="110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ara.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ara.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ara.3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ara.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ara.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Book"/>
              </a:rPr>
              <a:t>a.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 Watching TV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b. Free time activiti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c. Exercis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d. The best way to relax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e. Going onlin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7" name="WordArt 4" descr=""/>
          <p:cNvPicPr/>
          <p:nvPr/>
        </p:nvPicPr>
        <p:blipFill>
          <a:blip r:embed="rId2"/>
          <a:stretch/>
        </p:blipFill>
        <p:spPr>
          <a:xfrm>
            <a:off x="-12600" y="244440"/>
            <a:ext cx="3614760" cy="7794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3995640" y="476280"/>
            <a:ext cx="50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分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9" name="Oval 6"/>
          <p:cNvSpPr/>
          <p:nvPr/>
        </p:nvSpPr>
        <p:spPr>
          <a:xfrm>
            <a:off x="6948360" y="260280"/>
            <a:ext cx="1584360" cy="93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0" name="WordArt 7" descr=""/>
          <p:cNvPicPr/>
          <p:nvPr/>
        </p:nvPicPr>
        <p:blipFill>
          <a:blip r:embed="rId3"/>
          <a:stretch/>
        </p:blipFill>
        <p:spPr>
          <a:xfrm>
            <a:off x="-12600" y="969840"/>
            <a:ext cx="1792080" cy="639720"/>
          </a:xfrm>
          <a:prstGeom prst="rect">
            <a:avLst/>
          </a:prstGeom>
          <a:ln w="0">
            <a:noFill/>
          </a:ln>
        </p:spPr>
      </p:pic>
      <p:sp>
        <p:nvSpPr>
          <p:cNvPr id="481" name="Line 8"/>
          <p:cNvSpPr/>
          <p:nvPr/>
        </p:nvSpPr>
        <p:spPr>
          <a:xfrm>
            <a:off x="1547640" y="1989000"/>
            <a:ext cx="3168720" cy="863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2" name="Line 9"/>
          <p:cNvSpPr/>
          <p:nvPr/>
        </p:nvSpPr>
        <p:spPr>
          <a:xfrm>
            <a:off x="1547640" y="2781360"/>
            <a:ext cx="3168720" cy="863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3" name="Line 10"/>
          <p:cNvSpPr/>
          <p:nvPr/>
        </p:nvSpPr>
        <p:spPr>
          <a:xfrm>
            <a:off x="1547640" y="3500280"/>
            <a:ext cx="3384720" cy="1513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V="1">
            <a:off x="1619280" y="2133720"/>
            <a:ext cx="3240000" cy="20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5" name="Line 12"/>
          <p:cNvSpPr/>
          <p:nvPr/>
        </p:nvSpPr>
        <p:spPr>
          <a:xfrm flipV="1">
            <a:off x="1619280" y="4292640"/>
            <a:ext cx="3024000" cy="79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" descr="14-1.jpg"/>
          <p:cNvPicPr/>
          <p:nvPr/>
        </p:nvPicPr>
        <p:blipFill>
          <a:blip r:embed="rId2"/>
          <a:stretch/>
        </p:blipFill>
        <p:spPr>
          <a:xfrm>
            <a:off x="0" y="549360"/>
            <a:ext cx="8950320" cy="52862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4"/>
          <p:cNvSpPr/>
          <p:nvPr/>
        </p:nvSpPr>
        <p:spPr>
          <a:xfrm>
            <a:off x="971640" y="8366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15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285840" y="22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20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1857240" y="21430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20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1116000" y="32846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45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564000" y="6922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10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995640" y="3141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90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6013440" y="6922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13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380360" y="6922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2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164360" y="3141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0520"/>
                </a:solidFill>
                <a:latin typeface="Arial"/>
              </a:rPr>
              <a:t>85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96" name="WordArt 12" descr=""/>
          <p:cNvPicPr/>
          <p:nvPr/>
        </p:nvPicPr>
        <p:blipFill>
          <a:blip r:embed="rId3"/>
          <a:stretch/>
        </p:blipFill>
        <p:spPr>
          <a:xfrm>
            <a:off x="890640" y="176040"/>
            <a:ext cx="517320" cy="714600"/>
          </a:xfrm>
          <a:prstGeom prst="rect">
            <a:avLst/>
          </a:prstGeom>
          <a:ln w="0">
            <a:noFill/>
          </a:ln>
        </p:spPr>
      </p:pic>
      <p:pic>
        <p:nvPicPr>
          <p:cNvPr id="497" name="WordArt 13" descr=""/>
          <p:cNvPicPr/>
          <p:nvPr/>
        </p:nvPicPr>
        <p:blipFill>
          <a:blip r:embed="rId4"/>
          <a:stretch/>
        </p:blipFill>
        <p:spPr>
          <a:xfrm>
            <a:off x="3767040" y="-12600"/>
            <a:ext cx="519120" cy="714240"/>
          </a:xfrm>
          <a:prstGeom prst="rect">
            <a:avLst/>
          </a:prstGeom>
          <a:ln w="0">
            <a:noFill/>
          </a:ln>
        </p:spPr>
      </p:pic>
      <p:pic>
        <p:nvPicPr>
          <p:cNvPr id="498" name="WordArt 14" descr=""/>
          <p:cNvPicPr/>
          <p:nvPr/>
        </p:nvPicPr>
        <p:blipFill>
          <a:blip r:embed="rId5"/>
          <a:stretch/>
        </p:blipFill>
        <p:spPr>
          <a:xfrm>
            <a:off x="7223040" y="-12600"/>
            <a:ext cx="519120" cy="71424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15"/>
          <p:cNvSpPr/>
          <p:nvPr/>
        </p:nvSpPr>
        <p:spPr>
          <a:xfrm>
            <a:off x="400680" y="5443560"/>
            <a:ext cx="7980120" cy="642600"/>
          </a:xfrm>
          <a:prstGeom prst="flowChartProcess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percent of the students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cc00"/>
                </a:solidFill>
                <a:uFillTx/>
                <a:latin typeface="Times New Roman"/>
              </a:rPr>
              <a:t>exercise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every day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0" name="AutoShape 16"/>
          <p:cNvSpPr/>
          <p:nvPr/>
        </p:nvSpPr>
        <p:spPr>
          <a:xfrm>
            <a:off x="38520" y="259560"/>
            <a:ext cx="2375280" cy="520560"/>
          </a:xfrm>
          <a:prstGeom prst="flowChartProcess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ound that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1" name="AutoShape 17"/>
          <p:cNvSpPr/>
          <p:nvPr/>
        </p:nvSpPr>
        <p:spPr>
          <a:xfrm>
            <a:off x="2414880" y="260280"/>
            <a:ext cx="3740760" cy="52128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were surprised that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2" name="AutoShape 18"/>
          <p:cNvSpPr/>
          <p:nvPr/>
        </p:nvSpPr>
        <p:spPr>
          <a:xfrm>
            <a:off x="4409640" y="1825560"/>
            <a:ext cx="4687200" cy="9478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nswers to... about..were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so interesting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2"/>
          <p:cNvSpPr/>
          <p:nvPr/>
        </p:nvSpPr>
        <p:spPr>
          <a:xfrm>
            <a:off x="971640" y="3573360"/>
            <a:ext cx="7489800" cy="1440000"/>
          </a:xfrm>
          <a:custGeom>
            <a:avLst/>
            <a:gdLst>
              <a:gd name="textAreaLeft" fmla="*/ 0 w 7489800"/>
              <a:gd name="textAreaRight" fmla="*/ 7490160 w 7489800"/>
              <a:gd name="textAreaTop" fmla="*/ 374400 h 1440000"/>
              <a:gd name="textAreaBottom" fmla="*/ 10656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08000" y="117360"/>
            <a:ext cx="7777080" cy="1079640"/>
          </a:xfrm>
          <a:prstGeom prst="flowChartPunchedTap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181080" y="190440"/>
            <a:ext cx="864072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think the students at No. 5 are healthy?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-36360" y="4653000"/>
            <a:ext cx="1011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riter thinks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e best way to relax is through exercise </a:t>
            </a:r>
            <a:r>
              <a:rPr b="0" lang="zh-CN" sz="2800" spc="-1" strike="noStrike">
                <a:solidFill>
                  <a:srgbClr val="990099"/>
                </a:solidFill>
                <a:latin typeface="Arial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08000" y="551808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t is healthy for the mind and the body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08" name="图片 1" descr="14-1.jpg"/>
          <p:cNvPicPr/>
          <p:nvPr/>
        </p:nvPicPr>
        <p:blipFill>
          <a:blip r:embed="rId2"/>
          <a:stretch/>
        </p:blipFill>
        <p:spPr>
          <a:xfrm>
            <a:off x="3564000" y="1052640"/>
            <a:ext cx="4825800" cy="28080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 flipV="1" rot="10800000">
            <a:off x="7380360" y="242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0520"/>
                </a:solidFill>
                <a:latin typeface="Arial"/>
              </a:rPr>
              <a:t>85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500720" y="191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0520"/>
                </a:solidFill>
                <a:latin typeface="Arial"/>
              </a:rPr>
              <a:t>20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924360" y="11253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0520"/>
                </a:solidFill>
                <a:latin typeface="Arial"/>
              </a:rPr>
              <a:t>15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508720" y="2421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0520"/>
                </a:solidFill>
                <a:latin typeface="Arial"/>
              </a:rPr>
              <a:t>90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3" name="AutoShape 12"/>
          <p:cNvSpPr/>
          <p:nvPr/>
        </p:nvSpPr>
        <p:spPr>
          <a:xfrm>
            <a:off x="179280" y="1341360"/>
            <a:ext cx="8137800" cy="216072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14" name="Group 13"/>
          <p:cNvGrpSpPr/>
          <p:nvPr/>
        </p:nvGrpSpPr>
        <p:grpSpPr>
          <a:xfrm>
            <a:off x="179280" y="3502080"/>
            <a:ext cx="7961400" cy="1779840"/>
            <a:chOff x="179280" y="3502080"/>
            <a:chExt cx="7961400" cy="1779840"/>
          </a:xfrm>
        </p:grpSpPr>
        <p:sp>
          <p:nvSpPr>
            <p:cNvPr id="515" name="Text Box 14"/>
            <p:cNvSpPr/>
            <p:nvPr/>
          </p:nvSpPr>
          <p:spPr>
            <a:xfrm>
              <a:off x="912600" y="3725640"/>
              <a:ext cx="722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hat does the writer think is the best way to relax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? Wh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pic>
          <p:nvPicPr>
            <p:cNvPr id="516" name="WordArt 15" descr=""/>
            <p:cNvPicPr/>
            <p:nvPr/>
          </p:nvPicPr>
          <p:blipFill>
            <a:blip r:embed="rId3"/>
            <a:stretch/>
          </p:blipFill>
          <p:spPr>
            <a:xfrm>
              <a:off x="179280" y="3502080"/>
              <a:ext cx="1435680" cy="648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2799360" y="457200"/>
            <a:ext cx="21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(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复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66996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0" y="1295280"/>
            <a:ext cx="91440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t is good to relax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通过使用网络或看游戏节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we think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最好的放松方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s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通过锻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________________. 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xercise such as playing sports is fun, and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和你的朋友及家人一起共时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 you play together. And remember,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旧习难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 ______________________________ 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3060720" y="1341360"/>
            <a:ext cx="6013440" cy="56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 using the Internet or watching game shows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2052720" y="2060640"/>
            <a:ext cx="28083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best way to relax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5364000" y="2060640"/>
            <a:ext cx="2895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ough exercise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755640" y="2637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alth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771640" y="2708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mind and the bod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1476360" y="3933720"/>
            <a:ext cx="61722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nd time with your friends and famil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2052720" y="5013360"/>
            <a:ext cx="50292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ld habits die har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”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468360" y="5661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rt exercising before it’s too late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ast month we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sked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our students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bout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their free time activities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wenty percent do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xercise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t all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ost students use it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for fun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and not for homework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The answers to our questions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about watching TV were also interesting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spcBef>
                <a:spcPts val="700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It is good to relax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Franklin Gothic Book"/>
              </a:rPr>
              <a:t>by using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the Internet or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Franklin Gothic Book"/>
              </a:rPr>
              <a:t>watching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game shows, but we think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the best way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to relax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is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Franklin Gothic Book"/>
              </a:rPr>
              <a:t>through exercise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spcBef>
                <a:spcPts val="901"/>
              </a:spcBef>
              <a:buClr>
                <a:srgbClr val="2f2f2f"/>
              </a:buClr>
              <a:buSzPct val="5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Franklin Gothic Book"/>
              </a:rPr>
              <a:t>Old habits die hard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9" name="WordArt 3" descr=""/>
          <p:cNvPicPr/>
          <p:nvPr/>
        </p:nvPicPr>
        <p:blipFill>
          <a:blip r:embed="rId2"/>
          <a:stretch/>
        </p:blipFill>
        <p:spPr>
          <a:xfrm>
            <a:off x="1463760" y="244440"/>
            <a:ext cx="5454720" cy="693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4"/>
          <p:cNvSpPr/>
          <p:nvPr/>
        </p:nvSpPr>
        <p:spPr>
          <a:xfrm>
            <a:off x="755640" y="1195920"/>
            <a:ext cx="68166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经常问我有关中国历史的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755640" y="2060280"/>
            <a:ext cx="8137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我一点都不想做运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部电影一点也不有趣。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68360" y="3390120"/>
            <a:ext cx="8424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你知道这个问题的答案吗？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24000" y="4434840"/>
            <a:ext cx="8604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It's + adj. to do sth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学好英语非常重要。学好英语最好的方式是通过每天练习。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做某事的方式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way to do)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539640" y="5228640"/>
            <a:ext cx="86043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Listening to music is a good way____________(relax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5867280" y="5084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 relax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611280" y="5804640"/>
            <a:ext cx="6985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旧习难改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232988[1]"/>
          <p:cNvPicPr/>
          <p:nvPr/>
        </p:nvPicPr>
        <p:blipFill>
          <a:blip r:embed="rId2"/>
          <a:stretch/>
        </p:blipFill>
        <p:spPr>
          <a:xfrm>
            <a:off x="2340000" y="260280"/>
            <a:ext cx="2195640" cy="1728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儿童节韩国儿童矢量素材 - 男孩女孩篇 - 男孩女孩向量图77"/>
          <p:cNvPicPr/>
          <p:nvPr/>
        </p:nvPicPr>
        <p:blipFill>
          <a:blip r:embed="rId3"/>
          <a:stretch/>
        </p:blipFill>
        <p:spPr>
          <a:xfrm>
            <a:off x="6443640" y="476280"/>
            <a:ext cx="2124000" cy="172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shopping_01[1]"/>
          <p:cNvPicPr/>
          <p:nvPr/>
        </p:nvPicPr>
        <p:blipFill>
          <a:blip r:embed="rId4"/>
          <a:stretch/>
        </p:blipFill>
        <p:spPr>
          <a:xfrm>
            <a:off x="6659640" y="2593800"/>
            <a:ext cx="2016000" cy="19875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5"/>
          <p:cNvGrpSpPr/>
          <p:nvPr/>
        </p:nvGrpSpPr>
        <p:grpSpPr>
          <a:xfrm>
            <a:off x="1908000" y="2852640"/>
            <a:ext cx="2016360" cy="1657080"/>
            <a:chOff x="1908000" y="2852640"/>
            <a:chExt cx="2016360" cy="1657080"/>
          </a:xfrm>
        </p:grpSpPr>
        <p:pic>
          <p:nvPicPr>
            <p:cNvPr id="252" name="Picture 6" descr="Q版卡通矢量人物图库 - 其他人物 - 其他人物向量图64"/>
            <p:cNvPicPr/>
            <p:nvPr/>
          </p:nvPicPr>
          <p:blipFill>
            <a:blip r:embed="rId5"/>
            <a:stretch/>
          </p:blipFill>
          <p:spPr>
            <a:xfrm>
              <a:off x="1908000" y="2852640"/>
              <a:ext cx="201636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Oval 7"/>
            <p:cNvSpPr/>
            <p:nvPr/>
          </p:nvSpPr>
          <p:spPr>
            <a:xfrm>
              <a:off x="2538720" y="3588480"/>
              <a:ext cx="629280" cy="921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54" name="Text Box 8"/>
          <p:cNvSpPr/>
          <p:nvPr/>
        </p:nvSpPr>
        <p:spPr>
          <a:xfrm>
            <a:off x="396360" y="765000"/>
            <a:ext cx="19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1408"/>
                </a:solidFill>
                <a:latin typeface="Times New Roman"/>
              </a:rPr>
              <a:t>always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479840" y="731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572720" y="11253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1408"/>
                </a:solidFill>
                <a:latin typeface="Times New Roman"/>
              </a:rPr>
              <a:t>usually</a:t>
            </a:r>
            <a:endParaRPr b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326160" y="314172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1408"/>
                </a:solidFill>
                <a:latin typeface="Times New Roman"/>
              </a:rPr>
              <a:t>often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4284720" y="350028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1408"/>
                </a:solidFill>
                <a:latin typeface="Times New Roman"/>
              </a:rPr>
              <a:t>sometimes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003640" y="5084640"/>
            <a:ext cx="16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1408"/>
                </a:solidFill>
                <a:latin typeface="Times New Roman"/>
              </a:rPr>
              <a:t>never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440" y="5084640"/>
            <a:ext cx="26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1408"/>
                </a:solidFill>
                <a:latin typeface="Times New Roman"/>
              </a:rPr>
              <a:t>hardly ever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61" name="Picture 15" descr=""/>
          <p:cNvPicPr/>
          <p:nvPr/>
        </p:nvPicPr>
        <p:blipFill>
          <a:blip r:embed="rId6"/>
          <a:stretch/>
        </p:blipFill>
        <p:spPr>
          <a:xfrm>
            <a:off x="2556000" y="4941720"/>
            <a:ext cx="1871640" cy="1619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6"/>
          <p:cNvSpPr/>
          <p:nvPr/>
        </p:nvSpPr>
        <p:spPr>
          <a:xfrm>
            <a:off x="1011600" y="148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总是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497412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通常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725760" y="4024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常常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5407560" y="424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有时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889560" y="5942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几乎不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5621760" y="5897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从不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68" name="Picture 22" descr="exercise 3"/>
          <p:cNvPicPr/>
          <p:nvPr/>
        </p:nvPicPr>
        <p:blipFill>
          <a:blip r:embed="rId7"/>
          <a:stretch/>
        </p:blipFill>
        <p:spPr>
          <a:xfrm>
            <a:off x="6804000" y="4797360"/>
            <a:ext cx="1730520" cy="20163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3"/>
          <p:cNvSpPr/>
          <p:nvPr/>
        </p:nvSpPr>
        <p:spPr>
          <a:xfrm>
            <a:off x="4788000" y="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lp with housewor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在某人的空闲时间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一周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至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去上网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某人感到吃惊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5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15%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的学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最受欢迎的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7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(1)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和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…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共度时间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(2)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某人花费时间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金钱  做某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8320" y="85716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1. in one’s free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2. four to six times a we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3. </a:t>
            </a:r>
            <a:r>
              <a:rPr b="0" lang="en-US" sz="2400" spc="-1" strike="noStrike">
                <a:solidFill>
                  <a:srgbClr val="990099"/>
                </a:solidFill>
                <a:latin typeface="Franklin Gothic Book"/>
              </a:rPr>
              <a:t>go online/use the Intern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4. sb. be surprise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Franklin Gothic Book"/>
              </a:rPr>
              <a:t>5. 15 percent of the studen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6. the most popula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7. (1) spend time with sb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(2) sb.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Franklin Gothic Book"/>
              </a:rPr>
              <a:t>spend(s)/spent</a:t>
            </a:r>
            <a:r>
              <a:rPr b="0" lang="en-US" sz="2800" spc="-1" strike="noStrike">
                <a:solidFill>
                  <a:srgbClr val="990099"/>
                </a:solidFill>
                <a:latin typeface="Franklin Gothic Book"/>
              </a:rPr>
              <a:t> time/money doing sth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9" name="WordArt 4" descr=""/>
          <p:cNvPicPr/>
          <p:nvPr/>
        </p:nvPicPr>
        <p:blipFill>
          <a:blip r:embed="rId2"/>
          <a:stretch/>
        </p:blipFill>
        <p:spPr>
          <a:xfrm>
            <a:off x="596880" y="-6480"/>
            <a:ext cx="3451320" cy="144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WordArt 2" descr=""/>
          <p:cNvPicPr/>
          <p:nvPr/>
        </p:nvPicPr>
        <p:blipFill>
          <a:blip r:embed="rId2"/>
          <a:stretch/>
        </p:blipFill>
        <p:spPr>
          <a:xfrm>
            <a:off x="-731880" y="1762200"/>
            <a:ext cx="8004240" cy="235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5291280" y="1911240"/>
            <a:ext cx="40338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____ junk food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____ milk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____ fruit  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____vegetable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_____sleep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_____coffee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6084000" y="1866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155280" y="258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6155280" y="525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6226920" y="3306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226920" y="39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488320" y="353880"/>
            <a:ext cx="484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a M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the words</a:t>
            </a:r>
            <a:endParaRPr b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6155640" y="46036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9" name="Picture 13" descr="section B 1a 6"/>
          <p:cNvPicPr/>
          <p:nvPr/>
        </p:nvPicPr>
        <p:blipFill>
          <a:blip r:embed="rId2"/>
          <a:stretch/>
        </p:blipFill>
        <p:spPr>
          <a:xfrm>
            <a:off x="2843280" y="4530600"/>
            <a:ext cx="1873080" cy="1562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4" descr="section B 1a 1"/>
          <p:cNvPicPr/>
          <p:nvPr/>
        </p:nvPicPr>
        <p:blipFill>
          <a:blip r:embed="rId3"/>
          <a:stretch/>
        </p:blipFill>
        <p:spPr>
          <a:xfrm>
            <a:off x="611280" y="1217520"/>
            <a:ext cx="1871640" cy="1343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5" descr="section B 1a 2"/>
          <p:cNvPicPr/>
          <p:nvPr/>
        </p:nvPicPr>
        <p:blipFill>
          <a:blip r:embed="rId4"/>
          <a:stretch/>
        </p:blipFill>
        <p:spPr>
          <a:xfrm>
            <a:off x="468360" y="2730600"/>
            <a:ext cx="2098800" cy="1474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6" descr="section B 1a 3"/>
          <p:cNvPicPr/>
          <p:nvPr/>
        </p:nvPicPr>
        <p:blipFill>
          <a:blip r:embed="rId5"/>
          <a:stretch/>
        </p:blipFill>
        <p:spPr>
          <a:xfrm>
            <a:off x="468360" y="4530600"/>
            <a:ext cx="2055600" cy="1436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section B 1a 4"/>
          <p:cNvPicPr/>
          <p:nvPr/>
        </p:nvPicPr>
        <p:blipFill>
          <a:blip r:embed="rId6"/>
          <a:stretch/>
        </p:blipFill>
        <p:spPr>
          <a:xfrm>
            <a:off x="2771640" y="1217520"/>
            <a:ext cx="1943280" cy="1679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8" descr="section B 1a 5"/>
          <p:cNvPicPr/>
          <p:nvPr/>
        </p:nvPicPr>
        <p:blipFill>
          <a:blip r:embed="rId7"/>
          <a:stretch/>
        </p:blipFill>
        <p:spPr>
          <a:xfrm>
            <a:off x="2771640" y="2946240"/>
            <a:ext cx="1944720" cy="13208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0"/>
          <p:cNvSpPr/>
          <p:nvPr/>
        </p:nvSpPr>
        <p:spPr>
          <a:xfrm>
            <a:off x="98640" y="2128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109440" y="3443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7" name="Text Box 22"/>
          <p:cNvSpPr/>
          <p:nvPr/>
        </p:nvSpPr>
        <p:spPr>
          <a:xfrm>
            <a:off x="98280" y="5322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4668840" y="236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4746600" y="3587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4780080" y="5316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1" name="AutoShape 22"/>
          <p:cNvSpPr/>
          <p:nvPr/>
        </p:nvSpPr>
        <p:spPr>
          <a:xfrm>
            <a:off x="1789560" y="335160"/>
            <a:ext cx="5566680" cy="642600"/>
          </a:xfrm>
          <a:prstGeom prst="flowChartProcess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is healthy/unhealthy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0"/>
          <p:cNvSpPr/>
          <p:nvPr/>
        </p:nvSpPr>
        <p:spPr>
          <a:xfrm>
            <a:off x="468360" y="1268280"/>
            <a:ext cx="81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: How often do you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: I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: Do you like i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/the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es/No. Because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1. it's/they're delicious..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2. it's/they're good/bad for my health.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3. ........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63" name="WordArt 3" descr=""/>
          <p:cNvPicPr/>
          <p:nvPr/>
        </p:nvPicPr>
        <p:blipFill>
          <a:blip r:embed="rId2"/>
          <a:stretch/>
        </p:blipFill>
        <p:spPr>
          <a:xfrm>
            <a:off x="457200" y="182520"/>
            <a:ext cx="1249200" cy="102384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4"/>
          <p:cNvSpPr/>
          <p:nvPr/>
        </p:nvSpPr>
        <p:spPr>
          <a:xfrm>
            <a:off x="1873800" y="5317920"/>
            <a:ext cx="3884760" cy="1191240"/>
          </a:xfrm>
          <a:prstGeom prst="flowChartProcess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 good for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...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有益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 bad for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...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有害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0" y="260280"/>
            <a:ext cx="9102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 .Listen to an interview about twopeople’s daily habits. Circle your answer to each questions.</a:t>
            </a:r>
            <a:endParaRPr b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95280" y="3141720"/>
          <a:ext cx="8497800" cy="2158920"/>
        </p:xfrm>
        <a:graphic>
          <a:graphicData uri="http://schemas.openxmlformats.org/drawingml/2006/table">
            <a:tbl>
              <a:tblPr/>
              <a:tblGrid>
                <a:gridCol w="3956040"/>
                <a:gridCol w="1319400"/>
                <a:gridCol w="1098360"/>
                <a:gridCol w="21240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Does Tina have good habits?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Yes .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No.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I don’t know.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Does Bill have good habits?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Yes .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No .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I don’t know.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7" name="Oval 20"/>
          <p:cNvSpPr/>
          <p:nvPr/>
        </p:nvSpPr>
        <p:spPr>
          <a:xfrm>
            <a:off x="-887400" y="4365720"/>
            <a:ext cx="8874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8" name="Oval 21"/>
          <p:cNvSpPr/>
          <p:nvPr/>
        </p:nvSpPr>
        <p:spPr>
          <a:xfrm>
            <a:off x="6300720" y="1125360"/>
            <a:ext cx="1584360" cy="925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9" name="Oval 22"/>
          <p:cNvSpPr/>
          <p:nvPr/>
        </p:nvSpPr>
        <p:spPr>
          <a:xfrm>
            <a:off x="4140360" y="2843280"/>
            <a:ext cx="1009440" cy="925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0" name="Oval 23"/>
          <p:cNvSpPr/>
          <p:nvPr/>
        </p:nvSpPr>
        <p:spPr>
          <a:xfrm>
            <a:off x="5435640" y="4140360"/>
            <a:ext cx="1009440" cy="925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1" name="AutoShape 24"/>
          <p:cNvSpPr/>
          <p:nvPr/>
        </p:nvSpPr>
        <p:spPr>
          <a:xfrm>
            <a:off x="7956720" y="333360"/>
            <a:ext cx="936360" cy="719280"/>
          </a:xfrm>
          <a:custGeom>
            <a:avLst/>
            <a:gdLst>
              <a:gd name="textAreaLeft" fmla="*/ 44640 w 936360"/>
              <a:gd name="textAreaRight" fmla="*/ 891720 w 936360"/>
              <a:gd name="textAreaTop" fmla="*/ 44640 h 719280"/>
              <a:gd name="textAreaBottom" fmla="*/ 674640 h 719280"/>
            </a:gdLst>
            <a:ahLst/>
            <a:rect l="textAreaLeft" t="textAreaTop" r="textAreaRight" b="textAreaBottom"/>
            <a:pathLst>
              <a:path w="28116" h="21600">
                <a:moveTo>
                  <a:pt x="0" y="0"/>
                </a:moveTo>
                <a:lnTo>
                  <a:pt x="28116" y="0"/>
                </a:lnTo>
                <a:lnTo>
                  <a:pt x="28116" y="21600"/>
                </a:lnTo>
                <a:lnTo>
                  <a:pt x="0" y="21600"/>
                </a:lnTo>
                <a:close/>
              </a:path>
              <a:path fill="lightenLess" w="28116" h="21600">
                <a:moveTo>
                  <a:pt x="0" y="0"/>
                </a:moveTo>
                <a:lnTo>
                  <a:pt x="28116" y="0"/>
                </a:lnTo>
                <a:lnTo>
                  <a:pt x="26766" y="1350"/>
                </a:lnTo>
                <a:lnTo>
                  <a:pt x="1350" y="1350"/>
                </a:lnTo>
                <a:close/>
              </a:path>
              <a:path fill="darken" w="28116" h="21600">
                <a:moveTo>
                  <a:pt x="28116" y="0"/>
                </a:moveTo>
                <a:lnTo>
                  <a:pt x="28116" y="21600"/>
                </a:lnTo>
                <a:lnTo>
                  <a:pt x="26766" y="20250"/>
                </a:lnTo>
                <a:lnTo>
                  <a:pt x="26766" y="1350"/>
                </a:lnTo>
                <a:close/>
              </a:path>
              <a:path fill="darkenLess" w="28116" h="21600">
                <a:moveTo>
                  <a:pt x="2811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766" y="20250"/>
                </a:lnTo>
                <a:close/>
              </a:path>
              <a:path fill="lighten" w="2811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116" h="21600">
                <a:moveTo>
                  <a:pt x="7014" y="8394"/>
                </a:moveTo>
                <a:lnTo>
                  <a:pt x="11468" y="8394"/>
                </a:lnTo>
                <a:lnTo>
                  <a:pt x="15913" y="3756"/>
                </a:lnTo>
                <a:lnTo>
                  <a:pt x="15913" y="17844"/>
                </a:lnTo>
                <a:lnTo>
                  <a:pt x="11468" y="13206"/>
                </a:lnTo>
                <a:lnTo>
                  <a:pt x="7014" y="13206"/>
                </a:lnTo>
                <a:close/>
              </a:path>
              <a:path fill="darken" w="28116" h="21600">
                <a:moveTo>
                  <a:pt x="17575" y="10800"/>
                </a:moveTo>
                <a:lnTo>
                  <a:pt x="21102" y="10800"/>
                </a:lnTo>
              </a:path>
              <a:path fill="darken" w="28116" h="21600">
                <a:moveTo>
                  <a:pt x="17575" y="8394"/>
                </a:moveTo>
                <a:lnTo>
                  <a:pt x="21102" y="5611"/>
                </a:lnTo>
              </a:path>
              <a:path fill="darken" w="28116" h="21600">
                <a:moveTo>
                  <a:pt x="17575" y="13206"/>
                </a:moveTo>
                <a:lnTo>
                  <a:pt x="21102" y="15989"/>
                </a:lnTo>
              </a:path>
            </a:pathLst>
          </a:custGeom>
          <a:solidFill>
            <a:srgbClr val="00cc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sectionB-2b-1"/>
          <p:cNvPicPr/>
          <p:nvPr/>
        </p:nvPicPr>
        <p:blipFill>
          <a:blip r:embed="rId2"/>
          <a:stretch/>
        </p:blipFill>
        <p:spPr>
          <a:xfrm>
            <a:off x="4788000" y="549360"/>
            <a:ext cx="3311280" cy="2827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sectionB-2b-2"/>
          <p:cNvPicPr/>
          <p:nvPr/>
        </p:nvPicPr>
        <p:blipFill>
          <a:blip r:embed="rId3"/>
          <a:stretch/>
        </p:blipFill>
        <p:spPr>
          <a:xfrm>
            <a:off x="539640" y="476280"/>
            <a:ext cx="3743280" cy="28303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4"/>
          <p:cNvSpPr/>
          <p:nvPr/>
        </p:nvSpPr>
        <p:spPr>
          <a:xfrm>
            <a:off x="40320" y="4076640"/>
            <a:ext cx="8611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. Listen again . Fill in the blanks</a:t>
            </a:r>
            <a:endParaRPr b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 the survey.</a:t>
            </a:r>
            <a:endParaRPr b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5" name="Text Box 48"/>
          <p:cNvSpPr/>
          <p:nvPr/>
        </p:nvSpPr>
        <p:spPr>
          <a:xfrm>
            <a:off x="1042920" y="2708280"/>
            <a:ext cx="2448000" cy="77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Tina </a:t>
            </a:r>
            <a:endParaRPr b="1" lang="en-US" sz="45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6" name="Text Box 48"/>
          <p:cNvSpPr/>
          <p:nvPr/>
        </p:nvSpPr>
        <p:spPr>
          <a:xfrm>
            <a:off x="5076720" y="2708280"/>
            <a:ext cx="2448000" cy="77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Bill  </a:t>
            </a:r>
            <a:endParaRPr b="1" lang="en-US" sz="45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7" name="AutoShape 7"/>
          <p:cNvSpPr/>
          <p:nvPr/>
        </p:nvSpPr>
        <p:spPr>
          <a:xfrm>
            <a:off x="5219640" y="5734080"/>
            <a:ext cx="1152720" cy="719280"/>
          </a:xfrm>
          <a:custGeom>
            <a:avLst/>
            <a:gdLst>
              <a:gd name="textAreaLeft" fmla="*/ 44640 w 1152720"/>
              <a:gd name="textAreaRight" fmla="*/ 1108080 w 1152720"/>
              <a:gd name="textAreaTop" fmla="*/ 44640 h 719280"/>
              <a:gd name="textAreaBottom" fmla="*/ 674640 h 719280"/>
            </a:gdLst>
            <a:ahLst/>
            <a:rect l="textAreaLeft" t="textAreaTop" r="textAreaRight" b="textAreaBottom"/>
            <a:pathLst>
              <a:path w="34610" h="21600">
                <a:moveTo>
                  <a:pt x="0" y="0"/>
                </a:moveTo>
                <a:lnTo>
                  <a:pt x="34610" y="0"/>
                </a:lnTo>
                <a:lnTo>
                  <a:pt x="34610" y="21600"/>
                </a:lnTo>
                <a:lnTo>
                  <a:pt x="0" y="21600"/>
                </a:lnTo>
                <a:close/>
              </a:path>
              <a:path fill="lightenLess" w="34610" h="21600">
                <a:moveTo>
                  <a:pt x="0" y="0"/>
                </a:moveTo>
                <a:lnTo>
                  <a:pt x="34610" y="0"/>
                </a:lnTo>
                <a:lnTo>
                  <a:pt x="33260" y="1350"/>
                </a:lnTo>
                <a:lnTo>
                  <a:pt x="1350" y="1350"/>
                </a:lnTo>
                <a:close/>
              </a:path>
              <a:path fill="darken" w="34610" h="21600">
                <a:moveTo>
                  <a:pt x="34610" y="0"/>
                </a:moveTo>
                <a:lnTo>
                  <a:pt x="34610" y="21600"/>
                </a:lnTo>
                <a:lnTo>
                  <a:pt x="33260" y="20250"/>
                </a:lnTo>
                <a:lnTo>
                  <a:pt x="33260" y="1350"/>
                </a:lnTo>
                <a:close/>
              </a:path>
              <a:path fill="darkenLess" w="34610" h="21600">
                <a:moveTo>
                  <a:pt x="346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60" y="20250"/>
                </a:lnTo>
                <a:close/>
              </a:path>
              <a:path fill="lighten" w="346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610" h="21600">
                <a:moveTo>
                  <a:pt x="10261" y="8394"/>
                </a:moveTo>
                <a:lnTo>
                  <a:pt x="14715" y="8394"/>
                </a:lnTo>
                <a:lnTo>
                  <a:pt x="19160" y="3756"/>
                </a:lnTo>
                <a:lnTo>
                  <a:pt x="19160" y="17844"/>
                </a:lnTo>
                <a:lnTo>
                  <a:pt x="14715" y="13206"/>
                </a:lnTo>
                <a:lnTo>
                  <a:pt x="10261" y="13206"/>
                </a:lnTo>
                <a:close/>
              </a:path>
              <a:path fill="darken" w="34610" h="21600">
                <a:moveTo>
                  <a:pt x="20822" y="10800"/>
                </a:moveTo>
                <a:lnTo>
                  <a:pt x="24349" y="10800"/>
                </a:lnTo>
              </a:path>
              <a:path fill="darken" w="34610" h="21600">
                <a:moveTo>
                  <a:pt x="20822" y="8394"/>
                </a:moveTo>
                <a:lnTo>
                  <a:pt x="24349" y="5611"/>
                </a:lnTo>
              </a:path>
              <a:path fill="darken" w="34610" h="21600">
                <a:moveTo>
                  <a:pt x="20822" y="13206"/>
                </a:moveTo>
                <a:lnTo>
                  <a:pt x="24349" y="15989"/>
                </a:lnTo>
              </a:path>
            </a:pathLst>
          </a:custGeom>
          <a:solidFill>
            <a:srgbClr val="00ff00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0"/>
          <a:ext cx="9088560" cy="6962760"/>
        </p:xfrm>
        <a:graphic>
          <a:graphicData uri="http://schemas.openxmlformats.org/drawingml/2006/table">
            <a:tbl>
              <a:tblPr/>
              <a:tblGrid>
                <a:gridCol w="4324320"/>
                <a:gridCol w="2084400"/>
                <a:gridCol w="2679840"/>
              </a:tblGrid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Questions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Tina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Bill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1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 do you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 exercise?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very day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2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 do you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at f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ruit?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3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many hours do you sleep every night?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4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 do you drink milk?</a:t>
                      </a:r>
                      <a:endParaRPr b="1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5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 do you eat junk food?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6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 do you drink coffee?</a:t>
                      </a:r>
                      <a:endParaRPr b="1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6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9" name="Text Box 40"/>
          <p:cNvSpPr/>
          <p:nvPr/>
        </p:nvSpPr>
        <p:spPr>
          <a:xfrm>
            <a:off x="6504480" y="907920"/>
            <a:ext cx="2372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hardly ever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0" name="Text Box 41"/>
          <p:cNvSpPr/>
          <p:nvPr/>
        </p:nvSpPr>
        <p:spPr>
          <a:xfrm>
            <a:off x="4164840" y="2060640"/>
            <a:ext cx="2116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1" name="Text Box 43"/>
          <p:cNvSpPr/>
          <p:nvPr/>
        </p:nvSpPr>
        <p:spPr>
          <a:xfrm>
            <a:off x="7021080" y="2060640"/>
            <a:ext cx="134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6600cc"/>
                </a:solidFill>
                <a:latin typeface="Arial"/>
              </a:rPr>
              <a:t>never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4556160" y="3141720"/>
            <a:ext cx="108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4382280" y="4149720"/>
            <a:ext cx="2116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135560" y="4149720"/>
            <a:ext cx="134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never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4356720" y="4941720"/>
            <a:ext cx="2276280" cy="8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o or three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imes a week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6517800" y="4941720"/>
            <a:ext cx="2356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three or fou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times a week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4687560" y="6093000"/>
            <a:ext cx="134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never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6588000" y="6021360"/>
            <a:ext cx="2378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four times 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a day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077240" y="3068640"/>
            <a:ext cx="108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zh-CN" sz="3300" spc="-1" strike="noStrike">
                <a:solidFill>
                  <a:srgbClr val="6600cc"/>
                </a:solidFill>
                <a:latin typeface="Arial"/>
              </a:rPr>
              <a:t>nine</a:t>
            </a:r>
            <a:endParaRPr b="1" lang="en-US" sz="3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618920" y="1844640"/>
            <a:ext cx="70563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ina is healthy. She…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1" name="WordArt 3" descr=""/>
          <p:cNvPicPr/>
          <p:nvPr/>
        </p:nvPicPr>
        <p:blipFill>
          <a:blip r:embed="rId2"/>
          <a:stretch/>
        </p:blipFill>
        <p:spPr>
          <a:xfrm>
            <a:off x="1030320" y="469800"/>
            <a:ext cx="6113520" cy="108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内容占位符 3" descr="15-3a1.jpg"/>
          <p:cNvPicPr/>
          <p:nvPr/>
        </p:nvPicPr>
        <p:blipFill>
          <a:blip r:embed="rId2"/>
          <a:stretch/>
        </p:blipFill>
        <p:spPr>
          <a:xfrm>
            <a:off x="0" y="714240"/>
            <a:ext cx="9150480" cy="550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内容占位符 3" descr="15-3a2.jpg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48542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2"/>
          <p:cNvSpPr/>
          <p:nvPr/>
        </p:nvSpPr>
        <p:spPr>
          <a:xfrm>
            <a:off x="4916160" y="221472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5" name="Text Box 42"/>
          <p:cNvSpPr/>
          <p:nvPr/>
        </p:nvSpPr>
        <p:spPr>
          <a:xfrm>
            <a:off x="7624440" y="22147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uall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6" name="Text Box 42"/>
          <p:cNvSpPr/>
          <p:nvPr/>
        </p:nvSpPr>
        <p:spPr>
          <a:xfrm>
            <a:off x="2201760" y="27082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hardly ever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7" name="Text Box 42"/>
          <p:cNvSpPr/>
          <p:nvPr/>
        </p:nvSpPr>
        <p:spPr>
          <a:xfrm>
            <a:off x="1785960" y="342900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way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8" name="Text Box 42"/>
          <p:cNvSpPr/>
          <p:nvPr/>
        </p:nvSpPr>
        <p:spPr>
          <a:xfrm>
            <a:off x="189000" y="3929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ometim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9" name="Text Box 42"/>
          <p:cNvSpPr/>
          <p:nvPr/>
        </p:nvSpPr>
        <p:spPr>
          <a:xfrm>
            <a:off x="-164880" y="4508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hardly eve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0" name="Text Box 42"/>
          <p:cNvSpPr/>
          <p:nvPr/>
        </p:nvSpPr>
        <p:spPr>
          <a:xfrm>
            <a:off x="4674600" y="4643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eve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>
            <a:off x="4427640" y="4005360"/>
            <a:ext cx="3816360" cy="0"/>
          </a:xfrm>
          <a:prstGeom prst="line">
            <a:avLst/>
          </a:prstGeom>
          <a:ln w="38160">
            <a:solidFill>
              <a:srgbClr val="dd0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>
            <a:off x="3924360" y="4581360"/>
            <a:ext cx="4751280" cy="0"/>
          </a:xfrm>
          <a:prstGeom prst="line">
            <a:avLst/>
          </a:prstGeom>
          <a:ln w="38160">
            <a:solidFill>
              <a:srgbClr val="dd0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>
            <a:off x="250920" y="5229360"/>
            <a:ext cx="8281800" cy="71280"/>
          </a:xfrm>
          <a:prstGeom prst="line">
            <a:avLst/>
          </a:prstGeom>
          <a:ln w="38160">
            <a:solidFill>
              <a:srgbClr val="dd0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>
            <a:off x="179280" y="5877000"/>
            <a:ext cx="4176720" cy="0"/>
          </a:xfrm>
          <a:prstGeom prst="line">
            <a:avLst/>
          </a:prstGeom>
          <a:ln w="38160">
            <a:solidFill>
              <a:srgbClr val="dd0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5435640" y="1557360"/>
            <a:ext cx="3530520" cy="72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606" name="Group 15"/>
          <p:cNvGrpSpPr/>
          <p:nvPr/>
        </p:nvGrpSpPr>
        <p:grpSpPr>
          <a:xfrm>
            <a:off x="179280" y="2781360"/>
            <a:ext cx="8497800" cy="1224000"/>
            <a:chOff x="179280" y="2781360"/>
            <a:chExt cx="8497800" cy="1224000"/>
          </a:xfrm>
        </p:grpSpPr>
        <p:sp>
          <p:nvSpPr>
            <p:cNvPr id="607" name="Oval 16"/>
            <p:cNvSpPr/>
            <p:nvPr/>
          </p:nvSpPr>
          <p:spPr>
            <a:xfrm>
              <a:off x="5148000" y="2781360"/>
              <a:ext cx="3529080" cy="720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608" name="Oval 17"/>
            <p:cNvSpPr/>
            <p:nvPr/>
          </p:nvSpPr>
          <p:spPr>
            <a:xfrm>
              <a:off x="179280" y="3284640"/>
              <a:ext cx="1297080" cy="720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609" name="Line 18"/>
          <p:cNvSpPr/>
          <p:nvPr/>
        </p:nvSpPr>
        <p:spPr>
          <a:xfrm>
            <a:off x="971640" y="1628640"/>
            <a:ext cx="3960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台湾卡通矢量图 - 人物篇 - 体育运动员 - 运动员向量图146"/>
          <p:cNvPicPr/>
          <p:nvPr/>
        </p:nvPicPr>
        <p:blipFill>
          <a:blip r:embed="rId2"/>
          <a:stretch/>
        </p:blipFill>
        <p:spPr>
          <a:xfrm>
            <a:off x="6300720" y="1413000"/>
            <a:ext cx="1790640" cy="2278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tv"/>
          <p:cNvPicPr/>
          <p:nvPr/>
        </p:nvPicPr>
        <p:blipFill>
          <a:blip r:embed="rId3"/>
          <a:stretch/>
        </p:blipFill>
        <p:spPr>
          <a:xfrm>
            <a:off x="6012000" y="3860640"/>
            <a:ext cx="2233440" cy="1629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doing homework2"/>
          <p:cNvPicPr/>
          <p:nvPr/>
        </p:nvPicPr>
        <p:blipFill>
          <a:blip r:embed="rId4"/>
          <a:stretch/>
        </p:blipFill>
        <p:spPr>
          <a:xfrm>
            <a:off x="539640" y="2060640"/>
            <a:ext cx="2303640" cy="1584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4680" y="0"/>
            <a:ext cx="844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do you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do on weekends?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-99720" y="692280"/>
            <a:ext cx="76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always/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fte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/usually/sometimes...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0" y="371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3780000" y="2133720"/>
            <a:ext cx="30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867280" y="6021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tch TV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8" name="Picture 10" descr="j0232988[1]"/>
          <p:cNvPicPr/>
          <p:nvPr/>
        </p:nvPicPr>
        <p:blipFill>
          <a:blip r:embed="rId5"/>
          <a:stretch/>
        </p:blipFill>
        <p:spPr>
          <a:xfrm>
            <a:off x="1403280" y="4437000"/>
            <a:ext cx="1728720" cy="16970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1"/>
          <p:cNvSpPr/>
          <p:nvPr/>
        </p:nvSpPr>
        <p:spPr>
          <a:xfrm>
            <a:off x="539640" y="5950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some reading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1" descr="16-3.jpg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3857760" y="14288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uall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071720" y="25718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ow often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143000" y="31431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ardly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071720" y="37148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ow often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6072120" y="42148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ver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3786120" y="4786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lway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6"/>
          <p:cNvSpPr/>
          <p:nvPr/>
        </p:nvSpPr>
        <p:spPr>
          <a:xfrm>
            <a:off x="142920" y="763560"/>
            <a:ext cx="8785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ighty-five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cent of the student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______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watch TV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179280" y="1484280"/>
            <a:ext cx="87123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rty -five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percent of the student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_____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se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179280" y="2133720"/>
            <a:ext cx="9433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en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percent of the student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use the Internet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179280" y="2852640"/>
            <a:ext cx="8785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teen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percent of the student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_______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watch TV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179280" y="3645000"/>
            <a:ext cx="8713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 percent of the students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_________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watch TV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22" name="WordArt 7" descr=""/>
          <p:cNvPicPr/>
          <p:nvPr/>
        </p:nvPicPr>
        <p:blipFill>
          <a:blip r:embed="rId2"/>
          <a:stretch/>
        </p:blipFill>
        <p:spPr>
          <a:xfrm>
            <a:off x="3693960" y="5505480"/>
            <a:ext cx="1719360" cy="1090440"/>
          </a:xfrm>
          <a:prstGeom prst="rect">
            <a:avLst/>
          </a:prstGeom>
          <a:ln w="0">
            <a:noFill/>
          </a:ln>
        </p:spPr>
      </p:pic>
      <p:pic>
        <p:nvPicPr>
          <p:cNvPr id="623" name="WordArt 8" descr=""/>
          <p:cNvPicPr/>
          <p:nvPr/>
        </p:nvPicPr>
        <p:blipFill>
          <a:blip r:embed="rId3"/>
          <a:stretch/>
        </p:blipFill>
        <p:spPr>
          <a:xfrm>
            <a:off x="311040" y="4432320"/>
            <a:ext cx="7332840" cy="11332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5580000" y="69228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5567400" y="13809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ten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4800600" y="20829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tim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5346720" y="2719440"/>
            <a:ext cx="17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times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4749840" y="3524400"/>
            <a:ext cx="26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24000" y="1052640"/>
          <a:ext cx="8229600" cy="575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Activities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How often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xercise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at fruit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sleep at least 8 hours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at a healthy breakfast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eat junk food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  <a:ea typeface="黑体"/>
                        </a:rPr>
                        <a:t>stay up late</a:t>
                      </a:r>
                      <a:endParaRPr b="1" lang="en-US" sz="2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044720" y="6919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拍相当多的照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许多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lot of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建筑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一些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ome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不同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努力说好英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.Tom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想要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eel like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去某个美丽的地方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.Lucy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决定参观博物馆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没人好像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(seem)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很厌烦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495680" cy="55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你周末通常做什么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--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我总是锻炼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他们周末做什么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--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他们经常帮着做家务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她周末做什么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--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她有时去购物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你多久去看一次电影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--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我大概每月去看一次电影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5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他多久看一次电视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--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他几乎从不看电视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你去购物吗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Franklin Gothic Book"/>
              </a:rPr>
              <a:t>--</a:t>
            </a:r>
            <a:r>
              <a:rPr b="0" lang="zh-CN" sz="2800" spc="-1" strike="noStrike">
                <a:solidFill>
                  <a:srgbClr val="0000cc"/>
                </a:solidFill>
                <a:latin typeface="Franklin Gothic Book"/>
              </a:rPr>
              <a:t>不，我从不去购物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4920" y="5661000"/>
            <a:ext cx="57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omework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79280" y="33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usu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o on weekends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82" name="Picture 4" descr="图片25"/>
          <p:cNvPicPr/>
          <p:nvPr/>
        </p:nvPicPr>
        <p:blipFill>
          <a:blip r:embed="rId2"/>
          <a:stretch/>
        </p:blipFill>
        <p:spPr>
          <a:xfrm>
            <a:off x="179280" y="2708280"/>
            <a:ext cx="2851200" cy="2851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reading 2"/>
          <p:cNvPicPr/>
          <p:nvPr/>
        </p:nvPicPr>
        <p:blipFill>
          <a:blip r:embed="rId3"/>
          <a:stretch/>
        </p:blipFill>
        <p:spPr>
          <a:xfrm>
            <a:off x="6661080" y="3429000"/>
            <a:ext cx="2590920" cy="2212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4572000" y="5661000"/>
            <a:ext cx="424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ome reading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85" name="Picture 7" descr="shopping_01[1]"/>
          <p:cNvPicPr/>
          <p:nvPr/>
        </p:nvPicPr>
        <p:blipFill>
          <a:blip r:embed="rId4"/>
          <a:stretch/>
        </p:blipFill>
        <p:spPr>
          <a:xfrm>
            <a:off x="3635280" y="1701720"/>
            <a:ext cx="1812960" cy="2158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8"/>
          <p:cNvSpPr/>
          <p:nvPr/>
        </p:nvSpPr>
        <p:spPr>
          <a:xfrm>
            <a:off x="254520" y="98100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always/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fte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/usually/sometimes...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76720" y="234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hopping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xercise 3"/>
          <p:cNvPicPr/>
          <p:nvPr/>
        </p:nvPicPr>
        <p:blipFill>
          <a:blip r:embed="rId2"/>
          <a:stretch/>
        </p:blipFill>
        <p:spPr>
          <a:xfrm>
            <a:off x="6588000" y="2708280"/>
            <a:ext cx="275292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219640" y="422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79280" y="54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_____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usu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o on weekends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91" name="Picture 5" descr="football"/>
          <p:cNvPicPr/>
          <p:nvPr/>
        </p:nvPicPr>
        <p:blipFill>
          <a:blip r:embed="rId3"/>
          <a:stretch/>
        </p:blipFill>
        <p:spPr>
          <a:xfrm flipH="1">
            <a:off x="107640" y="3645000"/>
            <a:ext cx="2808360" cy="28717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2484360" y="5518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otball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404720" y="476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es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55240" y="981000"/>
            <a:ext cx="81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always/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fte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/usually/sometimes...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95" name="Group 9"/>
          <p:cNvGrpSpPr/>
          <p:nvPr/>
        </p:nvGrpSpPr>
        <p:grpSpPr>
          <a:xfrm>
            <a:off x="2124000" y="2133720"/>
            <a:ext cx="2016360" cy="1656720"/>
            <a:chOff x="2124000" y="2133720"/>
            <a:chExt cx="2016360" cy="1656720"/>
          </a:xfrm>
        </p:grpSpPr>
        <p:pic>
          <p:nvPicPr>
            <p:cNvPr id="296" name="Picture 10" descr="Q版卡通矢量人物图库 - 其他人物 - 其他人物向量图64"/>
            <p:cNvPicPr/>
            <p:nvPr/>
          </p:nvPicPr>
          <p:blipFill>
            <a:blip r:embed="rId4"/>
            <a:stretch/>
          </p:blipFill>
          <p:spPr>
            <a:xfrm>
              <a:off x="2124000" y="2133720"/>
              <a:ext cx="2016360" cy="141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Oval 11"/>
            <p:cNvSpPr/>
            <p:nvPr/>
          </p:nvSpPr>
          <p:spPr>
            <a:xfrm>
              <a:off x="2754720" y="2869560"/>
              <a:ext cx="629280" cy="92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98" name="Text Box 12"/>
          <p:cNvSpPr/>
          <p:nvPr/>
        </p:nvSpPr>
        <p:spPr>
          <a:xfrm>
            <a:off x="4140360" y="249228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atc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V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95280" y="57340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031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to the movies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79280" y="266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___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usu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o on weekends?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01" name="Picture 4" descr="0019b91ec6f7082121c102"/>
          <p:cNvPicPr/>
          <p:nvPr/>
        </p:nvPicPr>
        <p:blipFill>
          <a:blip r:embed="rId2"/>
          <a:stretch/>
        </p:blipFill>
        <p:spPr>
          <a:xfrm>
            <a:off x="395280" y="2781360"/>
            <a:ext cx="3887640" cy="2951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hopping"/>
          <p:cNvPicPr/>
          <p:nvPr/>
        </p:nvPicPr>
        <p:blipFill>
          <a:blip r:embed="rId3"/>
          <a:stretch/>
        </p:blipFill>
        <p:spPr>
          <a:xfrm>
            <a:off x="5580000" y="3687840"/>
            <a:ext cx="3456000" cy="29098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5508720" y="292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031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shopping.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385640" y="2602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254880" y="981000"/>
            <a:ext cx="85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always/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ofte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/usually/sometimes...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What do you do on week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 always/usually/often/sometimes/hardly ever/nev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: 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B do on week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: He/She always/usually/often/sometimes/hardly ever/never+V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三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WordArt 4" descr=""/>
          <p:cNvPicPr/>
          <p:nvPr/>
        </p:nvPicPr>
        <p:blipFill>
          <a:blip r:embed="rId2"/>
          <a:stretch/>
        </p:blipFill>
        <p:spPr>
          <a:xfrm>
            <a:off x="1390680" y="-73080"/>
            <a:ext cx="4516560" cy="148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7:27:49Z</dcterms:created>
  <dc:creator/>
  <dc:description/>
  <dc:language>en-US</dc:language>
  <cp:lastModifiedBy>User</cp:lastModifiedBy>
  <dcterms:modified xsi:type="dcterms:W3CDTF">2015-09-17T02:13:24Z</dcterms:modified>
  <cp:revision>1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